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C11F-0F35-473F-8BBC-2EFA50205E38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B6B6-001A-4817-9880-6FDD88D211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2570-820E-49F3-AA73-40291CC4DE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C442-4C7E-4A66-87CF-DCF01D0C7F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BD96-D1CB-413F-A386-9DA9FB3E6A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975-5FF0-480C-9BC0-FF28914C8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15C-D066-46ED-91B8-2067431E74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20A0-B774-4A01-9F3F-C0DD272461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4A0C-0B23-4788-A383-6BDBFE38CD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E3E5-B74F-4FE7-B280-010175C860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C690-A369-432D-82A9-FC7148A010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134B-9DBA-46EA-875A-890FE9B70B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E1A2-FA02-4032-9E0F-EC8F50ACD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D0F5-6888-4C4F-9800-A3EC6B1F78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A907-B0C2-4539-85C5-8C8784ACDD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767-F8B0-4EA7-B7CF-DD6C792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072-79A2-48CE-8897-E49F214E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65A-D0D3-4687-AC93-092FB70A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15E3-98DA-4DE5-BA24-2BD8B6CE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3AD-CAE7-483A-88F0-ABE9563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9FE-91D8-4F6B-9B81-03C4DFA7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183-836A-411B-9988-698EB73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FC4-FC50-48F1-9FD2-8CA937F5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19E-163F-48DB-BCDF-E9309215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C3C-700A-44C2-9A67-86A278DE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40A-57EF-47F4-B2C6-D2846F0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7E6-E21B-4DA1-B591-CC62ED22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9818-EB69-41F3-B3E2-F1C4F510452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115C-8731-4900-A43B-EFF74BBFB2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9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4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1628640"/>
            <a:ext cx="8642160" cy="4043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58ed5"/>
                </a:solidFill>
                <a:latin typeface="Georgia"/>
              </a:rPr>
              <a:t>Портал судової влади</a:t>
            </a:r>
            <a:br>
              <a:rPr sz="3600"/>
            </a:br>
            <a:br>
              <a:rPr sz="36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моніторинг інформаційного наповнення і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функціонування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фіційних веб-сайтів судів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порталі «Судова влада України»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2013 р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2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2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23800" y="126828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порталу за юрисдикція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(середня кількість переглядів за місяць на 1 су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0" descr=""/>
          <p:cNvPicPr/>
          <p:nvPr/>
        </p:nvPicPr>
        <p:blipFill>
          <a:blip r:embed="rId3"/>
          <a:stretch/>
        </p:blipFill>
        <p:spPr>
          <a:xfrm>
            <a:off x="665280" y="2346480"/>
            <a:ext cx="86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3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631800" y="1268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сайтів судів Портал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за травень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3"/>
          <a:stretch/>
        </p:blipFill>
        <p:spPr>
          <a:xfrm>
            <a:off x="628560" y="2133720"/>
            <a:ext cx="8631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3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"/>
          <p:cNvSpPr/>
          <p:nvPr/>
        </p:nvSpPr>
        <p:spPr>
          <a:xfrm>
            <a:off x="704880" y="1268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н оновлення судами власних сторінок у травні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31800" y="3068640"/>
          <a:ext cx="8642520" cy="2913120"/>
        </p:xfrm>
        <a:graphic>
          <a:graphicData uri="http://schemas.openxmlformats.org/drawingml/2006/table">
            <a:tbl>
              <a:tblPr/>
              <a:tblGrid>
                <a:gridCol w="7201080"/>
                <a:gridCol w="1441440"/>
              </a:tblGrid>
              <a:tr h="147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Загальна кількість внесеної інформ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Не 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 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44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45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7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ерспективи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631800" y="1873080"/>
            <a:ext cx="864252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Автоматичне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оприлюднення на сторінці суду Списку справ, призначених до розгляду (триває тестова експлуатація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Календар проведення відеконференцій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Створення електронного кабінету відвідувача для роботи з електронним суд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надсилання матеріалів до су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отримання судових рішень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Створення системи моніторингу матеріально-технічного забезпечення судів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56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7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9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Веб-портал "Судова влада України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31800" y="5445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Мета: </a:t>
            </a:r>
            <a:r>
              <a:rPr b="0" lang="ru-RU" sz="1800" spc="-1" strike="noStrike">
                <a:solidFill>
                  <a:srgbClr val="558ed5"/>
                </a:solidFill>
                <a:latin typeface="Georgia"/>
              </a:rPr>
              <a:t>забезпечення безкоштовного доступу громадян та державних органів і установ до інформації про діяльність судів та судових ус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3"/>
          <a:srcRect l="287" t="13927" r="19526" b="6163"/>
          <a:stretch/>
        </p:blipFill>
        <p:spPr>
          <a:xfrm>
            <a:off x="1928880" y="177336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6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6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31800" y="1193760"/>
            <a:ext cx="864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ідстави для розробки та нормативно-правові документи щодо адміністрування та наповнення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42960" y="2421000"/>
            <a:ext cx="86421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УКАЗ ПРЕЗИДЕНТА УКРАЇНИ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заход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щодо розвитку національної складової глобальної інформаційної мережі Інтернет та забезпечення широкого доступу до цієї мережі в Україні від 31 лип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0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928/2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ПОСТАНОВА КАБІНЕТ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У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МІНІСТРІВ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4 січня 2002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р.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3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Порядок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оприлюднення у мережі Інтернет інформації про діяльність органів виконавчої влади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ЕРЖАВНОЇ СУДОВОЇ АДМІНІСТРАЦІЇ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21 трав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3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186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творення Єдиної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комп</a:t>
            </a:r>
            <a:r>
              <a:rPr b="0" lang="ja-JP" sz="1400" spc="-1" strike="noStrike">
                <a:solidFill>
                  <a:srgbClr val="558ed5"/>
                </a:solidFill>
                <a:latin typeface="Georgia"/>
              </a:rPr>
              <a:t>’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ютерно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ережі судів України та запровадження централізованого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постереження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за потребам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ісцевих та апеляційних судів загальної юрисдикці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23 червня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2004 рок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№99/04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«Про забезпечення адміністрування та розміщення і постійного оновлення інформації на власних веб-сайтах судів та інших органів і установ судової системи у мережі Інтерн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17 червня 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2011 року № 103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«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Про організаційне забезпечення функціонування офіційного веб-портал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c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удової влади України» для сайту ДСА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Інструкція користувача ВЕБ-порталу "Судова Влада України“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(розроблена ДП “ІСС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73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7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76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1800" y="152892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Наповнення веб-порталу інформацією та керування сайтами суд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642960" y="28447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я, яка відображається на сторінках судів порталу, заповнюється особисто працівниками кожного суду, які мають паролі доступу до панелі керув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Усі данні зберігаються у централізований базі даних, головною метою якої є гарантоване збереження 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 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значних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бсягів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ї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д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доступу до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8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8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639800" y="1684440"/>
            <a:ext cx="662616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всіх судів загальної юрисди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органів суддівського самовряд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 ДСА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громадя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ий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Законодав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а стати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ажливі посил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сторінки су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424160" y="1916280"/>
            <a:ext cx="7345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про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Контакт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афік його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 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іш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несе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ЄДРС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Форма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ого інформаційного запиту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отрима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ублічної інформ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омадян та основні показники діяльності 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у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Будь-який інший розділ, доданий адміністратором сторі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9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800" y="134136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352520" y="2384280"/>
            <a:ext cx="73454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0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1800" y="1484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08120" y="2816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Автоматичне відображ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еб-сайт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ї про судові засід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передається на судовий портал з автоматизованої системи документообі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0"/>
          <p:cNvGrpSpPr/>
          <p:nvPr/>
        </p:nvGrpSpPr>
        <p:grpSpPr>
          <a:xfrm>
            <a:off x="0" y="55440"/>
            <a:ext cx="9906120" cy="1428840"/>
            <a:chOff x="0" y="55440"/>
            <a:chExt cx="9906120" cy="1428840"/>
          </a:xfrm>
        </p:grpSpPr>
        <p:grpSp>
          <p:nvGrpSpPr>
            <p:cNvPr id="113" name="Группа 14"/>
            <p:cNvGrpSpPr/>
            <p:nvPr/>
          </p:nvGrpSpPr>
          <p:grpSpPr>
            <a:xfrm>
              <a:off x="0" y="55440"/>
              <a:ext cx="9906120" cy="1428840"/>
              <a:chOff x="0" y="55440"/>
              <a:chExt cx="9906120" cy="142884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5544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34092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16" name="TextBox 9"/>
            <p:cNvSpPr/>
            <p:nvPr/>
          </p:nvSpPr>
          <p:spPr>
            <a:xfrm>
              <a:off x="0" y="49212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тистика перегляду 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Диаграмма 9" descr=""/>
          <p:cNvPicPr/>
          <p:nvPr/>
        </p:nvPicPr>
        <p:blipFill>
          <a:blip r:embed="rId3"/>
          <a:stretch/>
        </p:blipFill>
        <p:spPr>
          <a:xfrm>
            <a:off x="738360" y="1914480"/>
            <a:ext cx="8534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02:29Z</dcterms:created>
  <dc:creator>User</dc:creator>
  <dc:description/>
  <dc:language>en-US</dc:language>
  <cp:lastModifiedBy>ignatchenko</cp:lastModifiedBy>
  <cp:lastPrinted>2013-02-27T12:18:58Z</cp:lastPrinted>
  <dcterms:modified xsi:type="dcterms:W3CDTF">2014-03-14T13:03:15Z</dcterms:modified>
  <cp:revision>410</cp:revision>
  <dc:subject/>
  <dc:title>Презентация PowerPoint</dc:title>
</cp:coreProperties>
</file>