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5291-155A-4A00-9D3F-A59C35C8CB1B}" type="datetime">
              <a:rPr b="0" lang="ru-RU" sz="1200" spc="-1" strike="noStrike">
                <a:solidFill>
                  <a:srgbClr val="0000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3A7B-F982-414E-956E-A41BDB0E39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A88E-FA5A-4ED2-B4A4-F407D5DBEA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CA2E-DA74-4D44-BA1E-72DF7E1411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5F86-F2DD-429C-AC0F-B0BA6DF187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CE09-2484-46F2-AAFC-DBF4C9478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B121-5671-47F4-9AD1-BD0FC4846A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7B5D-017E-4A6B-B04D-E433EB2F15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B6C0-1752-4B69-B77B-35FDAE6361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9BA-68DE-4610-AAE5-8BCD1E0242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31A3-7AB0-4D27-A08A-3A71A50C0B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0C3E-B70A-4D32-A1C8-DE01EC3A7A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6460-E1E9-4967-AB68-64A50840E4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88F-08B5-43FC-A769-E1CF4D4715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D539-F6A5-48D4-99CF-472BCD8070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758-AC6B-4FF5-98AA-B545321F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98D-FA76-4413-86A6-46A7AEBD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C3A-EC01-4CA9-96FD-6C55AE25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AA14-60A8-42B2-8183-ED877A976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EEE-1C48-4C6F-BD5F-4A02CFE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593-A0AB-4C74-A7CC-8772C442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4E6-71B4-44F8-B3CA-0C69EF09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926-979D-4153-849C-2C0BE9FC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D61-C5BB-42FE-BE30-C05A945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176-DCA9-4A3F-A985-CC637E8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7FF-F531-4F89-A717-545D97A2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8A7-0844-4DC9-9197-F9ED0BB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C3E5-55A0-4F31-A539-969501362F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EDD7-F4B4-4DDD-B65A-27B7712215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9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4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5120" y="1628640"/>
            <a:ext cx="8642160" cy="4043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558ed5"/>
                </a:solidFill>
                <a:latin typeface="Georgia"/>
              </a:rPr>
              <a:t>Портал судової влади</a:t>
            </a:r>
            <a:br>
              <a:rPr sz="3600"/>
            </a:br>
            <a:br>
              <a:rPr sz="36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моніторинг інформаційного наповнення і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функціонування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фіційних веб-сайтів судів 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</a:t>
            </a: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порталі «Судова влада України»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2013 р.</a:t>
            </a:r>
            <a:br>
              <a:rPr sz="3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2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2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Прямоугольник 4"/>
          <p:cNvSpPr/>
          <p:nvPr/>
        </p:nvSpPr>
        <p:spPr>
          <a:xfrm>
            <a:off x="523800" y="1268280"/>
            <a:ext cx="885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порталу за юрисдикція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(середня кількість переглядів за місяць на 1 су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Диаграмма 10" descr=""/>
          <p:cNvPicPr/>
          <p:nvPr/>
        </p:nvPicPr>
        <p:blipFill>
          <a:blip r:embed="rId3"/>
          <a:stretch/>
        </p:blipFill>
        <p:spPr>
          <a:xfrm>
            <a:off x="665280" y="2346480"/>
            <a:ext cx="8607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2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3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631800" y="1268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опулярність сайтів судів Порталу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за травень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Диаграмма 9" descr=""/>
          <p:cNvPicPr/>
          <p:nvPr/>
        </p:nvPicPr>
        <p:blipFill>
          <a:blip r:embed="rId3"/>
          <a:stretch/>
        </p:blipFill>
        <p:spPr>
          <a:xfrm>
            <a:off x="628560" y="2133720"/>
            <a:ext cx="8631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3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3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Прямоугольник 4"/>
          <p:cNvSpPr/>
          <p:nvPr/>
        </p:nvSpPr>
        <p:spPr>
          <a:xfrm>
            <a:off x="704880" y="1268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н оновлення судами власних сторінок у травні 2013 ро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31800" y="3068640"/>
          <a:ext cx="8642520" cy="2913120"/>
        </p:xfrm>
        <a:graphic>
          <a:graphicData uri="http://schemas.openxmlformats.org/drawingml/2006/table">
            <a:tbl>
              <a:tblPr/>
              <a:tblGrid>
                <a:gridCol w="7201080"/>
                <a:gridCol w="1441440"/>
              </a:tblGrid>
              <a:tr h="1473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Загальна кількість внесеної інформаці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5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Не вносили 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інформацію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 (</a:t>
                      </a: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к-ть судів</a:t>
                      </a:r>
                      <a:r>
                        <a:rPr b="1" lang="ru-RU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558ed5"/>
                          </a:solidFill>
                          <a:latin typeface="Georgia"/>
                        </a:rPr>
                        <a:t>1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44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45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47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ерспективи розвитк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631800" y="1873080"/>
            <a:ext cx="8642520" cy="50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Автоматичне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оприлюднення на сторінці суду Списку справ, призначених до розгляду (триває тестова експлуатація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Календар проведення відеконференцій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</a:rPr>
              <a:t>Створення електронного кабінету відвідувача для роботи з електронним судо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надсилання матеріалів до су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отримання судових рішень</a:t>
            </a:r>
            <a:r>
              <a:rPr b="0" lang="ru-RU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58ed5"/>
                </a:solidFill>
                <a:latin typeface="Georgia"/>
                <a:ea typeface="ＭＳ Ｐゴシック"/>
              </a:rPr>
              <a:t>Створення системи моніторингу матеріально-технічного забезпечення судів (закрита частина портал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lnSpc>
                <a:spcPct val="100000"/>
              </a:lnSpc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56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57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59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Веб-портал "Судова влада України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31800" y="5445000"/>
            <a:ext cx="86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Мета: </a:t>
            </a:r>
            <a:r>
              <a:rPr b="0" lang="ru-RU" sz="1800" spc="-1" strike="noStrike">
                <a:solidFill>
                  <a:srgbClr val="558ed5"/>
                </a:solidFill>
                <a:latin typeface="Georgia"/>
              </a:rPr>
              <a:t>забезпечення безкоштовного доступу громадян та державних органів і установ до інформації про діяльність судів та судових устан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2" descr=""/>
          <p:cNvPicPr/>
          <p:nvPr/>
        </p:nvPicPr>
        <p:blipFill>
          <a:blip r:embed="rId3"/>
          <a:srcRect l="287" t="13927" r="19526" b="6163"/>
          <a:stretch/>
        </p:blipFill>
        <p:spPr>
          <a:xfrm>
            <a:off x="1928880" y="1773360"/>
            <a:ext cx="61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6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6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6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631800" y="1193760"/>
            <a:ext cx="8642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ідстави для розробки та нормативно-правові документи щодо адміністрування та наповнення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642960" y="2421000"/>
            <a:ext cx="8642160" cy="41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УКАЗ ПРЕЗИДЕНТА УКРАЇНИ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заход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щодо розвитку національної складової глобальної інформаційної мережі Інтернет та забезпечення широкого доступу до цієї мережі в Україні від 31 лип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0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928/2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ПОСТАНОВА КАБІНЕТ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У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МІНІСТРІВ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4 січня 2002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р.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3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Порядок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оприлюднення у мережі Інтернет інформації про діяльність органів виконавчої влади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ЕРЖАВНОЇ СУДОВОЇ АДМІНІСТРАЦІЇ УКРАЇН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від 21 травня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2003 рок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N 186 «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Про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творення Єдиної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комп</a:t>
            </a:r>
            <a:r>
              <a:rPr b="0" lang="ja-JP" sz="1400" spc="-1" strike="noStrike">
                <a:solidFill>
                  <a:srgbClr val="558ed5"/>
                </a:solidFill>
                <a:latin typeface="Georgia"/>
              </a:rPr>
              <a:t>’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ютерно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ережі судів України та запровадження централізованого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спостереження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 за потребами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місцевих та апеляційних судів загальної юрисдикції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23 червня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 2004 рок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№99/04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«Про забезпечення адміністрування та розміщення і постійного оновлення інформації на власних веб-сайтах судів та інших органів і установ судової системи у мережі Інтерне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Наказ ДСАУ </a:t>
            </a: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від 17 червня </a:t>
            </a:r>
            <a:r>
              <a:rPr b="1" lang="ru-RU" sz="1400" spc="-1" strike="noStrike">
                <a:solidFill>
                  <a:srgbClr val="558ed5"/>
                </a:solidFill>
                <a:latin typeface="Georgia"/>
              </a:rPr>
              <a:t>2011 року № 103 </a:t>
            </a:r>
            <a:r>
              <a:rPr b="0" lang="ru-RU" sz="1400" spc="-1" strike="noStrike">
                <a:solidFill>
                  <a:srgbClr val="558ed5"/>
                </a:solidFill>
                <a:latin typeface="Georgia"/>
              </a:rPr>
              <a:t>«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Про організаційне забезпечення функціонування офіційного веб-порталу </a:t>
            </a:r>
            <a:r>
              <a:rPr b="0" lang="en-US" sz="1400" spc="-1" strike="noStrike">
                <a:solidFill>
                  <a:srgbClr val="558ed5"/>
                </a:solidFill>
                <a:latin typeface="Georgia"/>
              </a:rPr>
              <a:t>c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удової влади України» для сайту ДСА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558ed5"/>
                </a:solidFill>
                <a:latin typeface="Georgia"/>
              </a:rPr>
              <a:t>Інструкція користувача ВЕБ-порталу "Судова Влада України“ </a:t>
            </a:r>
            <a:r>
              <a:rPr b="0" lang="uk-UA" sz="1400" spc="-1" strike="noStrike">
                <a:solidFill>
                  <a:srgbClr val="558ed5"/>
                </a:solidFill>
                <a:latin typeface="Georgia"/>
              </a:rPr>
              <a:t>(розроблена ДП “ІСС”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73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7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76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631800" y="152892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Наповнення веб-порталу інформацією та керування сайтами суді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"/>
          <p:cNvSpPr/>
          <p:nvPr/>
        </p:nvSpPr>
        <p:spPr>
          <a:xfrm>
            <a:off x="642960" y="2844720"/>
            <a:ext cx="864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я, яка відображається на сторінках судів порталу, заповнюється особисто працівниками кожного суду, які мають паролі доступу до панелі керув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Усі данні зберігаються у централізований базі даних, головною метою якої є гарантоване збереження 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 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значних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обсягів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інформації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адання</a:t>
            </a:r>
            <a:r>
              <a:rPr b="1" lang="ru-RU" sz="2000" spc="-1" strike="noStrike">
                <a:solidFill>
                  <a:srgbClr val="558ed5"/>
                </a:solidFill>
                <a:latin typeface="Georgia"/>
              </a:rPr>
              <a:t> доступу до </a:t>
            </a:r>
            <a:r>
              <a:rPr b="1" lang="uk-UA" sz="2000" spc="-1" strike="noStrike">
                <a:solidFill>
                  <a:srgbClr val="558ed5"/>
                </a:solidFill>
                <a:latin typeface="Georgia"/>
              </a:rPr>
              <a:t>неї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1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82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84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"/>
          <p:cNvSpPr/>
          <p:nvPr/>
        </p:nvSpPr>
        <p:spPr>
          <a:xfrm>
            <a:off x="1639800" y="1684440"/>
            <a:ext cx="6626160" cy="41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всіх судів загальної юрисдик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и органів суддівського самовряд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айт ДСА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громадян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ий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Законодавст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а статис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799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ажливі посил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8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89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0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92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руктура Веб-сторінки су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1424160" y="1916280"/>
            <a:ext cx="7345080" cy="43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Новини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про су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Контакт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т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афік його робо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остійні посилання на судові ресур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іш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несен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ЄДРС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Форма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електронного інформаційного запиту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отрима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ублічної інформ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ля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громадян та основні показники діяльності 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у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Судовий збі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Будь-який інший розділ, доданий адміністратором сторі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spcAft>
                <a:spcPts val="601"/>
              </a:spcAft>
              <a:buClr>
                <a:srgbClr val="558ed5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97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98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0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631800" y="134136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1" descr=""/>
          <p:cNvPicPr/>
          <p:nvPr/>
        </p:nvPicPr>
        <p:blipFill>
          <a:blip r:embed="rId3"/>
          <a:stretch/>
        </p:blipFill>
        <p:spPr>
          <a:xfrm>
            <a:off x="1352520" y="2384280"/>
            <a:ext cx="7345440" cy="37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grpSp>
          <p:nvGrpSpPr>
            <p:cNvPr id="105" name="Группа 14"/>
            <p:cNvGrpSpPr/>
            <p:nvPr/>
          </p:nvGrpSpPr>
          <p:grpSpPr>
            <a:xfrm>
              <a:off x="0" y="0"/>
              <a:ext cx="9906120" cy="1428840"/>
              <a:chOff x="0" y="0"/>
              <a:chExt cx="9906120" cy="1428840"/>
            </a:xfrm>
          </p:grpSpPr>
          <p:pic>
            <p:nvPicPr>
              <p:cNvPr id="106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28548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08" name="TextBox 9"/>
            <p:cNvSpPr/>
            <p:nvPr/>
          </p:nvSpPr>
          <p:spPr>
            <a:xfrm>
              <a:off x="0" y="43668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631800" y="1484280"/>
            <a:ext cx="864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Функціонал порталу судової влади України «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Список справ,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призначених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 до </a:t>
            </a: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розгляду</a:t>
            </a:r>
            <a:r>
              <a:rPr b="1" lang="ru-RU" sz="2600" spc="-1" strike="noStrike">
                <a:solidFill>
                  <a:srgbClr val="558ed5"/>
                </a:solidFill>
                <a:latin typeface="Georgia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"/>
          <p:cNvSpPr/>
          <p:nvPr/>
        </p:nvSpPr>
        <p:spPr>
          <a:xfrm>
            <a:off x="708120" y="2816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Автоматичне відображення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на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веб-сайті</a:t>
            </a:r>
            <a:r>
              <a:rPr b="1" lang="ru-RU" sz="1800" spc="-1" strike="noStrike">
                <a:solidFill>
                  <a:srgbClr val="558ed5"/>
                </a:solidFill>
                <a:latin typeface="Georgia"/>
              </a:rPr>
              <a:t> суду </a:t>
            </a: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ї про судові засід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558ed5"/>
                </a:solidFill>
                <a:latin typeface="Georgia"/>
              </a:rPr>
              <a:t>Інформація передається на судовий портал з автоматизованої системи документообі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lnSpc>
                <a:spcPct val="100000"/>
              </a:lnSpc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0"/>
          <p:cNvGrpSpPr/>
          <p:nvPr/>
        </p:nvGrpSpPr>
        <p:grpSpPr>
          <a:xfrm>
            <a:off x="0" y="55440"/>
            <a:ext cx="9906120" cy="1428840"/>
            <a:chOff x="0" y="55440"/>
            <a:chExt cx="9906120" cy="1428840"/>
          </a:xfrm>
        </p:grpSpPr>
        <p:grpSp>
          <p:nvGrpSpPr>
            <p:cNvPr id="113" name="Группа 14"/>
            <p:cNvGrpSpPr/>
            <p:nvPr/>
          </p:nvGrpSpPr>
          <p:grpSpPr>
            <a:xfrm>
              <a:off x="0" y="55440"/>
              <a:ext cx="9906120" cy="1428840"/>
              <a:chOff x="0" y="55440"/>
              <a:chExt cx="9906120" cy="142884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rcRect l="0" t="0" r="364" b="0"/>
              <a:stretch/>
            </p:blipFill>
            <p:spPr>
              <a:xfrm>
                <a:off x="0" y="55440"/>
                <a:ext cx="9906120" cy="142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6" descr="E:\UDC\Конференція суддів\Untitled-1.gif"/>
              <p:cNvPicPr/>
              <p:nvPr/>
            </p:nvPicPr>
            <p:blipFill>
              <a:blip r:embed="rId2"/>
              <a:stretch/>
            </p:blipFill>
            <p:spPr>
              <a:xfrm>
                <a:off x="452160" y="340920"/>
                <a:ext cx="566640" cy="78588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  <p:sp>
          <p:nvSpPr>
            <p:cNvPr id="116" name="TextBox 9"/>
            <p:cNvSpPr/>
            <p:nvPr/>
          </p:nvSpPr>
          <p:spPr>
            <a:xfrm>
              <a:off x="0" y="492120"/>
              <a:ext cx="9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ff"/>
                  </a:solidFill>
                  <a:latin typeface="Georgia"/>
                </a:rPr>
                <a:t>ДЕРЖАВНА СУДОВА АДМІНІСТРАЦІЯ УКРАЇНИ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Прямоугольник 3"/>
          <p:cNvSpPr/>
          <p:nvPr/>
        </p:nvSpPr>
        <p:spPr>
          <a:xfrm>
            <a:off x="631800" y="6264360"/>
            <a:ext cx="8642520" cy="44280"/>
          </a:xfrm>
          <a:prstGeom prst="rect">
            <a:avLst/>
          </a:prstGeom>
          <a:solidFill>
            <a:srgbClr val="558ed5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4"/>
          <p:cNvSpPr/>
          <p:nvPr/>
        </p:nvSpPr>
        <p:spPr>
          <a:xfrm>
            <a:off x="631800" y="1268280"/>
            <a:ext cx="864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558ed5"/>
                </a:solidFill>
                <a:latin typeface="Georgia"/>
              </a:rPr>
              <a:t>Статистика перегляду портал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Диаграмма 9" descr=""/>
          <p:cNvPicPr/>
          <p:nvPr/>
        </p:nvPicPr>
        <p:blipFill>
          <a:blip r:embed="rId3"/>
          <a:stretch/>
        </p:blipFill>
        <p:spPr>
          <a:xfrm>
            <a:off x="738360" y="1914480"/>
            <a:ext cx="853416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6:02:29Z</dcterms:created>
  <dc:creator>User</dc:creator>
  <dc:description/>
  <dc:language>en-US</dc:language>
  <cp:lastModifiedBy>ignatchenko</cp:lastModifiedBy>
  <cp:lastPrinted>2013-02-27T12:18:58Z</cp:lastPrinted>
  <dcterms:modified xsi:type="dcterms:W3CDTF">2014-03-14T13:03:15Z</dcterms:modified>
  <cp:revision>410</cp:revision>
  <dc:subject/>
  <dc:title>Презентация PowerPoint</dc:title>
</cp:coreProperties>
</file>