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D1D7-8F6D-4D1F-95EB-5940F7B243E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9F7C-BA9A-43E3-9B45-6E09BD9AB3E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4541-E9C2-4F70-9427-815D66D78B0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9CF4-7B1F-4D24-8B61-29F3B02A9BA7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ell, you have probably seen the film “Angels and Demon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79E-51E4-41D9-8EFB-0177EC65B7FE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DA93-F6BE-4E66-AB6D-F93EACFF08F4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115-08B6-433F-96E6-F19FCDD33E6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C944-B5F4-4DE3-9BF1-DA2AB08D775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6D44-EF8B-493C-96E9-2AC19E7C4CD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9B0-9D32-4350-B04F-F174A8648448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36EC-B338-41D8-888F-A7494EDB5569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9C7D-BCCC-403C-941F-91862E0C954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BB9-FDF0-4ADF-92A7-248C8B11ED21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6C6C-CDFF-46AE-B98A-668E684D696B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E291-E881-4C85-8961-2FC99345D2EC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F08B-55EA-4131-8ED1-9F462590BA8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CF54-4977-4563-81B7-DAF04DEFFF0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4A5-2C01-4292-B1CA-C375D355771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DDD1-6559-4D65-A86A-66C0D7BB5CE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DA6C-9458-47A9-9674-CD24B8BB983F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630A-9B15-448D-947A-E25C74B714F5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38C-07D6-4EDE-BA75-E09AC001E1BD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46D-A20F-4DC8-A352-5759D3AED33A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CCC1-A05A-48F4-B4B5-698CF32E5BE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1911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7B-E3F5-488B-8A3E-C3CFFC1D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61B6-2F49-40A3-A362-81D4C45B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19E-882B-4D77-B460-30EDD270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C05-59EE-44BF-B4BE-375A65633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68EB-E0FC-43C3-8E19-30BD61B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D46E-7F78-40F0-8327-CF541CB3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4EF3-7057-4359-8E6B-20D9A9B96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9F7F-4BDE-40A4-B390-656435C1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FC12-DE99-437B-8618-9D220DC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9E09-029A-4937-AB1C-3833793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0D23-6A08-4C87-8AFD-B9DFC62F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38BA-B633-482E-A300-6DB35EEA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5957-D34A-4B50-AD36-49E7CC6C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9B48-51BE-4A8C-8E33-79994C66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2474-F536-4338-9908-3F6AACFE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4B60-D7C6-4A52-AB41-08144DBD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5722-EF77-4C3A-9FF0-759CA902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F66-E3DF-4860-AAC4-613CC13C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58E2-0255-4FB2-98B8-C5D565DE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B33-AB1C-45C5-B008-C312364B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DBF-7A62-481E-B2A9-DAF14CB5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863-58F3-436F-B41C-FC4F856B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EC4-C439-40B6-BE96-40E497D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9F52-0837-4582-9E9A-780E3D8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8851-FD1F-432E-BF24-C47B499F93B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04A0-D4D7-4606-8060-D0865086723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ribsorvroma.wordpress.com/" TargetMode="External"/><Relationship Id="rId2" Type="http://schemas.openxmlformats.org/officeDocument/2006/relationships/hyperlink" Target="http://twitter.com/tribsorv" TargetMode="External"/><Relationship Id="rId3" Type="http://schemas.openxmlformats.org/officeDocument/2006/relationships/hyperlink" Target="http://www.flickr.com/photos/46730249@N02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ff99"/>
                </a:solidFill>
                <a:latin typeface="Arial"/>
              </a:rPr>
              <a:t>Система судоустрою Італії</a:t>
            </a:r>
            <a:br>
              <a:rPr sz="2400"/>
            </a:br>
            <a:endParaRPr b="0" lang="en-US" sz="2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364000" y="1484280"/>
            <a:ext cx="378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Dario Quintavalle –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nior Executiv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nistry of Justice, Ita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rt Manager of th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urveillance Court of Ro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quadriga"/>
          <p:cNvPicPr/>
          <p:nvPr/>
        </p:nvPicPr>
        <p:blipFill>
          <a:blip r:embed="rId1"/>
          <a:stretch/>
        </p:blipFill>
        <p:spPr>
          <a:xfrm>
            <a:off x="324000" y="1781280"/>
            <a:ext cx="696276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Surveillance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ribunale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operates as a court of first instance, and as a court of appeal towards the decisions of the Surveillance Jud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Surveillance Judge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gistrato di Sorveglianz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is a judge of first ins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rveillance Court: 4 members = 2 judges + 2 experts (psychology, social services, education, psychiatry and clinical criminology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88" name="Picture 7" descr="DSC04275p"/>
          <p:cNvPicPr/>
          <p:nvPr/>
        </p:nvPicPr>
        <p:blipFill>
          <a:blip r:embed="rId1"/>
          <a:stretch/>
        </p:blipFill>
        <p:spPr>
          <a:xfrm>
            <a:off x="324000" y="1628640"/>
            <a:ext cx="8604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 of Ro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300720" y="1628640"/>
            <a:ext cx="28432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anti-Mafia prison regime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6" descr="DSC09219"/>
          <p:cNvPicPr/>
          <p:nvPr/>
        </p:nvPicPr>
        <p:blipFill>
          <a:blip r:embed="rId1"/>
          <a:stretch/>
        </p:blipFill>
        <p:spPr>
          <a:xfrm>
            <a:off x="250920" y="177336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Be our friend…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580000" y="1628280"/>
            <a:ext cx="3564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1"/>
              </a:rPr>
              <a:t>http://tribsorvroma.wordpress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cebook: Tribunale di Sorveglianza di Ro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itte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2"/>
              </a:rPr>
              <a:t>http://twitter.com/tribsor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ickr: </a:t>
            </a:r>
            <a:r>
              <a:rPr b="0" lang="en-US" sz="2400" spc="-1" strike="noStrike" u="sng">
                <a:solidFill>
                  <a:srgbClr val="ddd800"/>
                </a:solidFill>
                <a:uFillTx/>
                <a:latin typeface="Tahoma"/>
                <a:hlinkClick r:id="rId3"/>
              </a:rPr>
              <a:t>http://www.flickr.com/photos/46730249@N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5" descr="pan"/>
          <p:cNvPicPr/>
          <p:nvPr/>
        </p:nvPicPr>
        <p:blipFill>
          <a:blip r:embed="rId4"/>
          <a:stretch/>
        </p:blipFill>
        <p:spPr>
          <a:xfrm>
            <a:off x="179280" y="1773360"/>
            <a:ext cx="5400720" cy="44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Governan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upreme Council of Jud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ired by the President of the 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ed by all Magistr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oints Chief Judges and Prosecu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 as disciplinary court for Jud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inistry of Justic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ruitment of Magistrates, Barristers, Notaries, Court Cle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 main depart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Administr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son Adminis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venile Justice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tics of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0.000 employ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ourt Administrator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s of the Ministry of Jus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charge of Human Resources, Organization, Finance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ject to evaluation by the M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mpowered until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1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ee main criminal organization (MAF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crime: “Mafia-style associat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A: National Direction Anti-maf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A: National Procuror Anti-mafia under surveillance of the General Prosecutor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ulse and co-ordination of OC investig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DA: District Direction Anti-mafia (2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: interforce Anti-mafia police agen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2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2560" y="162864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1-bis prison regime: mafia + terrorism +dru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he use of the telephone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all association or correspondence with other prisoner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meetings with third par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trictions on visits from members of the family (once per month and visitors are only allowed to communicate by intercom through thick glass)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receiving or sending sums of money over a set amount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organizing cultural, recreational or sporting activiti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voting or standing in elections for prisoner representatives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ban on taking part in arts-and-crafts activ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3. Fight against organized crime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06" name="Picture 5" descr="arresto_provenzano"/>
          <p:cNvPicPr/>
          <p:nvPr/>
        </p:nvPicPr>
        <p:blipFill>
          <a:blip r:embed="rId1"/>
          <a:stretch/>
        </p:blipFill>
        <p:spPr>
          <a:xfrm>
            <a:off x="250920" y="1989000"/>
            <a:ext cx="4389480" cy="38545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42920" y="177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rveillance Court of Rome is the court competent on nationwide level on appeals against the 41-bis dec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scation of all assets and destination to social u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About Italy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ted country since 186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democratic republic since 194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 and NATO founding memb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largest GDP in the worl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° best health care system in the world (WH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radle of Law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University in the world (Law School of Bologna 108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country to abolish death penalty (178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just m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Ongoing Problem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zed Cr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orrup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 conflict between politics and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number of civil proceedings pending (5 million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ssive length of Criminal Proceedings = several condemnations by ECH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mbersome legislation (20.000 laws) under codif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most important Italian contribution to the Ukrainian Judiciary so far…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presso Coffee machines !  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8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2" name="Picture 5" descr="coffeemachine"/>
          <p:cNvPicPr/>
          <p:nvPr/>
        </p:nvPicPr>
        <p:blipFill>
          <a:blip r:embed="rId1"/>
          <a:stretch/>
        </p:blipFill>
        <p:spPr>
          <a:xfrm>
            <a:off x="1692360" y="1413000"/>
            <a:ext cx="5740200" cy="52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Questions? and Answers!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214" name="Picture 5" descr="puntoint"/>
          <p:cNvPicPr/>
          <p:nvPr/>
        </p:nvPicPr>
        <p:blipFill>
          <a:blip r:embed="rId1"/>
          <a:stretch/>
        </p:blipFill>
        <p:spPr>
          <a:xfrm>
            <a:off x="1187280" y="1700280"/>
            <a:ext cx="698508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Population and Immigration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pic>
        <p:nvPicPr>
          <p:cNvPr id="165" name="Picture 5" descr="Stranieri_in_Italia_2008"/>
          <p:cNvPicPr/>
          <p:nvPr/>
        </p:nvPicPr>
        <p:blipFill>
          <a:blip r:embed="rId1"/>
          <a:stretch/>
        </p:blipFill>
        <p:spPr>
          <a:xfrm>
            <a:off x="324000" y="2924280"/>
            <a:ext cx="8604000" cy="3744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324000" y="1197000"/>
            <a:ext cx="8424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0.000.000 peo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 million immigra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300.000 Ukrainians ( “Badanti” = caring ladi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Governance and Rule of Law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liament bi-came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ependent Judici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sident of the Republi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 Re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te Law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regul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Law (not in Civil and Criminal matter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risdictions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32000" y="1599840"/>
            <a:ext cx="375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al Cou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dinary (Civil and Crimin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ministrat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ccount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lit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ddd8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sc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19" descr="giudici"/>
          <p:cNvPicPr/>
          <p:nvPr/>
        </p:nvPicPr>
        <p:blipFill>
          <a:blip r:embed="rId1"/>
          <a:stretch/>
        </p:blipFill>
        <p:spPr>
          <a:xfrm>
            <a:off x="179280" y="1700280"/>
            <a:ext cx="46087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Magistrate Body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000 ca. (+ 3500 honorary judg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and self-gover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secutors + Jud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lected by public compet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eer progression by sen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eputation and presti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7 magistrates killed (1969 – 199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8" descr="falcone_borsellino"/>
          <p:cNvPicPr/>
          <p:nvPr/>
        </p:nvPicPr>
        <p:blipFill>
          <a:blip r:embed="rId1"/>
          <a:stretch/>
        </p:blipFill>
        <p:spPr>
          <a:xfrm>
            <a:off x="4284720" y="1700280"/>
            <a:ext cx="4608360" cy="31240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427640" y="530064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</a:rPr>
              <a:t>Giovanni Falcone - Paolo Borselli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The Court System </a:t>
            </a:r>
            <a:br>
              <a:rPr sz="4000"/>
            </a:br>
            <a:r>
              <a:rPr b="0" lang="en-US" sz="4000" spc="-1" strike="noStrike">
                <a:solidFill>
                  <a:srgbClr val="ccff99"/>
                </a:solidFill>
                <a:latin typeface="Arial"/>
              </a:rPr>
              <a:t>(Civil + Criminal)</a:t>
            </a:r>
            <a:endParaRPr b="0" lang="en-US" sz="40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Cass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of First In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ice of Pe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eral Public Prosecutor at the Court of App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Prosecu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33"/>
          <p:cNvSpPr/>
          <p:nvPr/>
        </p:nvSpPr>
        <p:spPr>
          <a:xfrm>
            <a:off x="4859280" y="522936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ecutors dispose of special section of Police (Judiciary Police), co-ordinate investigations  and promote criminal 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Justice system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ht to have 3 hearings, until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ruling is definitive and executive before Cas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Cassation rules out, new hear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eal are new judgments and not revision of the precedent ruling  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novum judici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jury trial but most serious cases heard by a Court of Assize composed of two professional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Togat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six lay judges,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iudici Popola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The Surveillance Courts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0.000 people in jail (1/2 of them foreigners… but very few Ukrainians!), frequent amnes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forbids non-humane treat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 superintend on the whole correctional syst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des on probation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orcement of verdict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ernative sanc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ur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5:13:54Z</dcterms:created>
  <dc:creator>pippo</dc:creator>
  <dc:description/>
  <dc:language>en-US</dc:language>
  <cp:lastModifiedBy>lipovyi</cp:lastModifiedBy>
  <dcterms:modified xsi:type="dcterms:W3CDTF">2013-08-01T09:24:54Z</dcterms:modified>
  <cp:revision>41</cp:revision>
  <dc:subject/>
  <dc:title>Trai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