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9E5F-128E-41CE-997E-2A74231AEF1F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70E-75B4-4119-9919-191E86FF82A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28B4-C5D5-48A1-BA30-1777673ACD6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92240" y="87480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3120" cy="41796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FÖRKLARINGOCH ARBETSGÅ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Mottagare av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Vem/vilken aktör startar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Delprocess/aktivitet inom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Output,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Input, processens sta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Delprocessen/aktivitetens slutresultat (och nästa delprocess/aktivitets inpu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Informationssamb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Informations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Samband med andra process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Mätpunk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1EA-653E-4DAE-9F05-599DADDA5C9B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beho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D8A7-BCE8-43A8-A7C9-9CA321BEE73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försla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71E-9641-4FC3-BF05-0DB08AAE852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77840" y="86364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1300" spc="-1" strike="noStrike">
                <a:solidFill>
                  <a:srgbClr val="000000"/>
                </a:solidFill>
                <a:latin typeface="Times New Roman"/>
              </a:rPr>
              <a:t>SVERIGES DOMSTO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00D3-A7EB-4DE8-89A3-3321C05DD726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3B0C-2783-4A08-9EAA-C0BFA5996534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99"/>
                </a:solidFill>
                <a:latin typeface="Garamond"/>
              </a:rPr>
              <a:t>Метод аналізу процесів діловодств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4179960" y="2711520"/>
            <a:ext cx="1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7604280" y="3679920"/>
            <a:ext cx="2156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114560" y="364968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457360" y="374328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954840" y="3559320"/>
            <a:ext cx="2174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684440" y="356544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797280" y="4257720"/>
            <a:ext cx="2160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405240" y="357660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03840" y="2519280"/>
            <a:ext cx="21888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5064120" y="229536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951600" y="2151000"/>
            <a:ext cx="252360" cy="258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7560720" y="367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080360" y="36482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423520" y="37400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6934320" y="3546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650240" y="3552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3763440" y="4245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3372120" y="3573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870360" y="250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039640" y="2292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6894360" y="21337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3706920" y="2781360"/>
            <a:ext cx="931320" cy="360360"/>
            <a:chOff x="3706920" y="2781360"/>
            <a:chExt cx="931320" cy="360360"/>
          </a:xfrm>
        </p:grpSpPr>
        <p:sp>
          <p:nvSpPr>
            <p:cNvPr id="168" name="Rectangle 24"/>
            <p:cNvSpPr/>
            <p:nvPr/>
          </p:nvSpPr>
          <p:spPr>
            <a:xfrm>
              <a:off x="3706920" y="2781360"/>
              <a:ext cx="931320" cy="3603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800880" y="2834280"/>
              <a:ext cx="743040" cy="2541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0" name="Rectangle 26"/>
          <p:cNvSpPr/>
          <p:nvPr/>
        </p:nvSpPr>
        <p:spPr>
          <a:xfrm>
            <a:off x="3840120" y="2852640"/>
            <a:ext cx="598680" cy="397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IS Handl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4402080" y="3720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06520" y="3378240"/>
            <a:ext cx="80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3086280" y="337824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696000" y="337500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924440" y="3378240"/>
            <a:ext cx="8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1084320" y="3197160"/>
            <a:ext cx="33660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059480" y="321480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7499520" y="3197160"/>
            <a:ext cx="33804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7391160" y="3224160"/>
            <a:ext cx="52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Kun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6878520" y="253368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6947280" y="250668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6977520" y="280980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710676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682020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66080" y="274320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7083360" y="26416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7095960" y="278748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7061040" y="2986200"/>
            <a:ext cx="1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90840" y="3227400"/>
            <a:ext cx="39672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184640" y="2711520"/>
            <a:ext cx="1006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1616040" y="250200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684800" y="247500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715760" y="27781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84500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55772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1803240" y="271152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1820880" y="26100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833480" y="275580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56"/>
          <p:cNvSpPr/>
          <p:nvPr/>
        </p:nvSpPr>
        <p:spPr>
          <a:xfrm flipH="1">
            <a:off x="1796760" y="2954160"/>
            <a:ext cx="32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01" name="Object 57"/>
          <p:cNvGraphicFramePr/>
          <p:nvPr/>
        </p:nvGraphicFramePr>
        <p:xfrm>
          <a:off x="1692360" y="3068640"/>
          <a:ext cx="14652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14652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8"/>
          <p:cNvGraphicFramePr/>
          <p:nvPr/>
        </p:nvGraphicFramePr>
        <p:xfrm>
          <a:off x="3941640" y="3044880"/>
          <a:ext cx="10382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1640" y="3044880"/>
                    <a:ext cx="10382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9"/>
          <p:cNvGraphicFramePr/>
          <p:nvPr/>
        </p:nvGraphicFramePr>
        <p:xfrm>
          <a:off x="5692680" y="3044880"/>
          <a:ext cx="103500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3044880"/>
                    <a:ext cx="1035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60"/>
          <p:cNvSpPr/>
          <p:nvPr/>
        </p:nvSpPr>
        <p:spPr>
          <a:xfrm>
            <a:off x="32860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50734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686124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0" name="Object 63"/>
          <p:cNvGraphicFramePr/>
          <p:nvPr/>
        </p:nvGraphicFramePr>
        <p:xfrm>
          <a:off x="3940200" y="4527720"/>
          <a:ext cx="104616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0200" y="4527720"/>
                    <a:ext cx="104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Line 64"/>
          <p:cNvSpPr/>
          <p:nvPr/>
        </p:nvSpPr>
        <p:spPr>
          <a:xfrm>
            <a:off x="5580000" y="27306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Line 65"/>
          <p:cNvSpPr/>
          <p:nvPr/>
        </p:nvSpPr>
        <p:spPr>
          <a:xfrm>
            <a:off x="6148440" y="2724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202280" y="4046400"/>
            <a:ext cx="396720" cy="2732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va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5154480" y="2602080"/>
            <a:ext cx="3970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Yttrand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134200" y="2349360"/>
            <a:ext cx="55728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21520" y="2349360"/>
            <a:ext cx="1922400" cy="606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924440" y="2349360"/>
            <a:ext cx="143352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22680" y="2349360"/>
            <a:ext cx="130824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27240" y="2349360"/>
            <a:ext cx="148896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82480" y="2349360"/>
            <a:ext cx="1540080" cy="57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73120" y="2349360"/>
            <a:ext cx="8120160" cy="17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924440" y="23796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3625920" y="237816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28320" y="2373480"/>
            <a:ext cx="180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16520" y="2347920"/>
            <a:ext cx="14842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еобхідність в змінах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33520" y="2349360"/>
            <a:ext cx="15951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ожливості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96440" y="2343240"/>
            <a:ext cx="937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лідк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686040" y="2344680"/>
            <a:ext cx="1187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6361200" y="237348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8137440" y="23670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926040" y="233208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308400" y="6453360"/>
            <a:ext cx="292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99cc00"/>
                </a:solidFill>
                <a:latin typeface="Arial"/>
              </a:rPr>
              <a:t>Kap5 – Etapp2 – Inrikta processförändring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091120" y="2381400"/>
            <a:ext cx="260028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87560" y="2381400"/>
            <a:ext cx="2195640" cy="542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84240" y="2381400"/>
            <a:ext cx="191304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71640" y="2349360"/>
            <a:ext cx="671508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391440" y="292428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087880" y="2384280"/>
            <a:ext cx="180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2901960" y="238752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416240" y="2487600"/>
            <a:ext cx="1276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позиції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928960" y="2357280"/>
            <a:ext cx="207180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чікувани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2320920"/>
            <a:ext cx="128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ьогодні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299280" y="2327400"/>
            <a:ext cx="153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завт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982440" y="1773360"/>
            <a:ext cx="461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ка майбутніх процесі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18120" y="4379760"/>
            <a:ext cx="1665000" cy="8766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85960" y="4341960"/>
            <a:ext cx="2373120" cy="8730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6920" y="4317840"/>
            <a:ext cx="7732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облеми </a:t>
            </a:r>
            <a:r>
              <a:rPr b="1" lang="sv-SE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Можливості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008000" y="4676400"/>
            <a:ext cx="22510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500120" y="434664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885960" y="4886280"/>
            <a:ext cx="236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885960" y="5064120"/>
            <a:ext cx="23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100240" y="434196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616120" y="434664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559520" y="4313160"/>
            <a:ext cx="571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714680" y="4500720"/>
            <a:ext cx="102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688480" y="4316400"/>
            <a:ext cx="100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473280" y="1751040"/>
            <a:ext cx="96552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757680" y="1722600"/>
            <a:ext cx="176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362400" y="1844640"/>
            <a:ext cx="944640" cy="89208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376440" y="1925640"/>
            <a:ext cx="1020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 існуючи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29040" y="4572000"/>
            <a:ext cx="963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923000" y="4371840"/>
            <a:ext cx="0" cy="88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408640" y="437688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4208400" y="4719600"/>
            <a:ext cx="167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4216320" y="4919760"/>
            <a:ext cx="16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216320" y="5097600"/>
            <a:ext cx="166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Arc 27"/>
          <p:cNvSpPr/>
          <p:nvPr/>
        </p:nvSpPr>
        <p:spPr>
          <a:xfrm>
            <a:off x="2085840" y="3270240"/>
            <a:ext cx="457200" cy="996840"/>
          </a:xfrm>
          <a:custGeom>
            <a:avLst/>
            <a:gdLst>
              <a:gd name="textAreaLeft" fmla="*/ 0 w 457200"/>
              <a:gd name="textAreaRight" fmla="*/ 457560 w 4572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fill="none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</a:path>
              <a:path stroke="0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  <a:lnTo>
                  <a:pt x="0" y="21275"/>
                </a:lnTo>
                <a:lnTo>
                  <a:pt x="3734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Arc 28"/>
          <p:cNvSpPr/>
          <p:nvPr/>
        </p:nvSpPr>
        <p:spPr>
          <a:xfrm rot="19080000">
            <a:off x="3263760" y="4525560"/>
            <a:ext cx="928800" cy="339840"/>
          </a:xfrm>
          <a:custGeom>
            <a:avLst/>
            <a:gdLst>
              <a:gd name="textAreaLeft" fmla="*/ 0 w 928800"/>
              <a:gd name="textAreaRight" fmla="*/ 929160 w 928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fill="none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</a:path>
              <a:path stroke="0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Arc 29"/>
          <p:cNvSpPr/>
          <p:nvPr/>
        </p:nvSpPr>
        <p:spPr>
          <a:xfrm>
            <a:off x="4791240" y="3409920"/>
            <a:ext cx="695160" cy="819360"/>
          </a:xfrm>
          <a:custGeom>
            <a:avLst/>
            <a:gdLst>
              <a:gd name="textAreaLeft" fmla="*/ 0 w 695160"/>
              <a:gd name="textAreaRight" fmla="*/ 695520 w 69516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fill="none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</a:path>
              <a:path stroke="0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  <a:lnTo>
                  <a:pt x="21598" y="21600"/>
                </a:lnTo>
                <a:lnTo>
                  <a:pt x="-1" y="21306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451640" y="4437000"/>
            <a:ext cx="1152720" cy="13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7308720" y="4581360"/>
            <a:ext cx="1347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Передумови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Аналіз процесів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Управління проектом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- Проек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943640" y="1871640"/>
            <a:ext cx="76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раз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5276160" y="1744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Arc 34"/>
          <p:cNvSpPr/>
          <p:nvPr/>
        </p:nvSpPr>
        <p:spPr>
          <a:xfrm>
            <a:off x="1397160" y="1981080"/>
            <a:ext cx="339480" cy="324000"/>
          </a:xfrm>
          <a:custGeom>
            <a:avLst/>
            <a:gdLst>
              <a:gd name="textAreaLeft" fmla="*/ 0 w 339480"/>
              <a:gd name="textAreaRight" fmla="*/ 339840 w 339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</a:path>
              <a:path stroke="0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  <a:lnTo>
                  <a:pt x="94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30e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6788160" y="1671480"/>
            <a:ext cx="1041480" cy="90036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6686640" y="1757520"/>
            <a:ext cx="100944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6681960" y="1785960"/>
            <a:ext cx="1033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майбутні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Line 41"/>
          <p:cNvSpPr/>
          <p:nvPr/>
        </p:nvSpPr>
        <p:spPr>
          <a:xfrm>
            <a:off x="768240" y="50198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392120" y="468000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774720" y="52196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Line 44"/>
          <p:cNvSpPr/>
          <p:nvPr/>
        </p:nvSpPr>
        <p:spPr>
          <a:xfrm>
            <a:off x="774720" y="5397480"/>
            <a:ext cx="23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Line 45"/>
          <p:cNvSpPr/>
          <p:nvPr/>
        </p:nvSpPr>
        <p:spPr>
          <a:xfrm>
            <a:off x="1990800" y="467532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Line 46"/>
          <p:cNvSpPr/>
          <p:nvPr/>
        </p:nvSpPr>
        <p:spPr>
          <a:xfrm>
            <a:off x="2505240" y="468000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4937040" y="4424400"/>
            <a:ext cx="50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Ефект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5353560" y="4424400"/>
            <a:ext cx="72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іоритет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93" name="Object 60"/>
          <p:cNvGraphicFramePr/>
          <p:nvPr/>
        </p:nvGraphicFramePr>
        <p:xfrm>
          <a:off x="4600440" y="2238480"/>
          <a:ext cx="196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2238480"/>
                    <a:ext cx="196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1"/>
          <p:cNvGrpSpPr/>
          <p:nvPr/>
        </p:nvGrpSpPr>
        <p:grpSpPr>
          <a:xfrm>
            <a:off x="467640" y="1197000"/>
            <a:ext cx="1673640" cy="743040"/>
            <a:chOff x="467640" y="1197000"/>
            <a:chExt cx="1673640" cy="743040"/>
          </a:xfrm>
        </p:grpSpPr>
        <p:sp>
          <p:nvSpPr>
            <p:cNvPr id="296" name="Line 62"/>
            <p:cNvSpPr/>
            <p:nvPr/>
          </p:nvSpPr>
          <p:spPr>
            <a:xfrm>
              <a:off x="1428840" y="1851120"/>
              <a:ext cx="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7" name="Oval 63"/>
            <p:cNvSpPr/>
            <p:nvPr/>
          </p:nvSpPr>
          <p:spPr>
            <a:xfrm>
              <a:off x="981360" y="1473120"/>
              <a:ext cx="3697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8" name="AutoShape 64"/>
            <p:cNvSpPr/>
            <p:nvPr/>
          </p:nvSpPr>
          <p:spPr>
            <a:xfrm>
              <a:off x="941760" y="1419120"/>
              <a:ext cx="99720" cy="30240"/>
            </a:xfrm>
            <a:prstGeom prst="parallelogram">
              <a:avLst>
                <a:gd name="adj" fmla="val 824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9" name="AutoShape 65"/>
            <p:cNvSpPr/>
            <p:nvPr/>
          </p:nvSpPr>
          <p:spPr>
            <a:xfrm>
              <a:off x="1248480" y="1602000"/>
              <a:ext cx="99720" cy="29880"/>
            </a:xfrm>
            <a:prstGeom prst="parallelogram">
              <a:avLst>
                <a:gd name="adj" fmla="val 834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0" name="AutoShape 66"/>
            <p:cNvSpPr/>
            <p:nvPr/>
          </p:nvSpPr>
          <p:spPr>
            <a:xfrm>
              <a:off x="1510920" y="1833480"/>
              <a:ext cx="98280" cy="32040"/>
            </a:xfrm>
            <a:prstGeom prst="parallelogram">
              <a:avLst>
                <a:gd name="adj" fmla="val 766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1" name="Line 67"/>
            <p:cNvSpPr/>
            <p:nvPr/>
          </p:nvSpPr>
          <p:spPr>
            <a:xfrm flipV="1">
              <a:off x="990360" y="1455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2" name="Line 68"/>
            <p:cNvSpPr/>
            <p:nvPr/>
          </p:nvSpPr>
          <p:spPr>
            <a:xfrm flipV="1">
              <a:off x="993240" y="13633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3" name="Line 69"/>
            <p:cNvSpPr/>
            <p:nvPr/>
          </p:nvSpPr>
          <p:spPr>
            <a:xfrm>
              <a:off x="1343880" y="16128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4" name="Line 70"/>
            <p:cNvSpPr/>
            <p:nvPr/>
          </p:nvSpPr>
          <p:spPr>
            <a:xfrm flipH="1" flipV="1">
              <a:off x="1562040" y="1690560"/>
              <a:ext cx="2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05" name="Group 71"/>
            <p:cNvGrpSpPr/>
            <p:nvPr/>
          </p:nvGrpSpPr>
          <p:grpSpPr>
            <a:xfrm>
              <a:off x="467640" y="1500120"/>
              <a:ext cx="331200" cy="229320"/>
              <a:chOff x="467640" y="1500120"/>
              <a:chExt cx="331200" cy="229320"/>
            </a:xfrm>
          </p:grpSpPr>
          <p:graphicFrame>
            <p:nvGraphicFramePr>
              <p:cNvPr id="306" name="Object 72"/>
              <p:cNvGraphicFramePr/>
              <p:nvPr/>
            </p:nvGraphicFramePr>
            <p:xfrm>
              <a:off x="485640" y="1508040"/>
              <a:ext cx="263880" cy="214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7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5640" y="1508040"/>
                        <a:ext cx="26388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Rectangle 73"/>
              <p:cNvSpPr/>
              <p:nvPr/>
            </p:nvSpPr>
            <p:spPr>
              <a:xfrm>
                <a:off x="467640" y="1500120"/>
                <a:ext cx="331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LEV/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309" name="Line 74"/>
            <p:cNvSpPr/>
            <p:nvPr/>
          </p:nvSpPr>
          <p:spPr>
            <a:xfrm>
              <a:off x="738000" y="160668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10" name="Group 75"/>
            <p:cNvGrpSpPr/>
            <p:nvPr/>
          </p:nvGrpSpPr>
          <p:grpSpPr>
            <a:xfrm>
              <a:off x="1785240" y="1500120"/>
              <a:ext cx="356040" cy="200160"/>
              <a:chOff x="1785240" y="1500120"/>
              <a:chExt cx="356040" cy="200160"/>
            </a:xfrm>
          </p:grpSpPr>
          <p:graphicFrame>
            <p:nvGraphicFramePr>
              <p:cNvPr id="311" name="Object 76"/>
              <p:cNvGraphicFramePr/>
              <p:nvPr/>
            </p:nvGraphicFramePr>
            <p:xfrm>
              <a:off x="1785240" y="1500120"/>
              <a:ext cx="250560" cy="200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Object 7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85240" y="1500120"/>
                        <a:ext cx="250560" cy="20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3" name="Rectangle 77"/>
              <p:cNvSpPr/>
              <p:nvPr/>
            </p:nvSpPr>
            <p:spPr>
              <a:xfrm>
                <a:off x="1797840" y="1525680"/>
                <a:ext cx="343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314" name="Object 78"/>
            <p:cNvGraphicFramePr/>
            <p:nvPr/>
          </p:nvGraphicFramePr>
          <p:xfrm>
            <a:off x="829080" y="1197000"/>
            <a:ext cx="344520" cy="17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Object 7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80" y="1197000"/>
                      <a:ext cx="34452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79"/>
            <p:cNvGraphicFramePr/>
            <p:nvPr/>
          </p:nvGraphicFramePr>
          <p:xfrm>
            <a:off x="843840" y="1522440"/>
            <a:ext cx="347400" cy="17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7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3840" y="1522440"/>
                      <a:ext cx="34740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80"/>
            <p:cNvGraphicFramePr/>
            <p:nvPr/>
          </p:nvGraphicFramePr>
          <p:xfrm>
            <a:off x="1409760" y="1522440"/>
            <a:ext cx="343080" cy="171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09760" y="1522440"/>
                      <a:ext cx="34308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Line 81"/>
            <p:cNvSpPr/>
            <p:nvPr/>
          </p:nvSpPr>
          <p:spPr>
            <a:xfrm>
              <a:off x="1182240" y="1614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aphicFrame>
          <p:nvGraphicFramePr>
            <p:cNvPr id="321" name="Object 82"/>
            <p:cNvGraphicFramePr/>
            <p:nvPr/>
          </p:nvGraphicFramePr>
          <p:xfrm>
            <a:off x="1088640" y="1763640"/>
            <a:ext cx="350280" cy="17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Object 8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8640" y="1763640"/>
                      <a:ext cx="35028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Line 83"/>
            <p:cNvSpPr/>
            <p:nvPr/>
          </p:nvSpPr>
          <p:spPr>
            <a:xfrm>
              <a:off x="1747080" y="16099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aphicFrame>
        <p:nvGraphicFramePr>
          <p:cNvPr id="324" name="Object 84"/>
          <p:cNvGraphicFramePr/>
          <p:nvPr/>
        </p:nvGraphicFramePr>
        <p:xfrm>
          <a:off x="1344600" y="2340000"/>
          <a:ext cx="1819440" cy="76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8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44600" y="2340000"/>
                    <a:ext cx="18194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егистрация и распределение уголовного дела</a:t>
            </a:r>
            <a:endParaRPr b="1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84360" y="1989000"/>
            <a:ext cx="142560" cy="14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187280" y="1557360"/>
            <a:ext cx="136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826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62728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08000" y="3860640"/>
            <a:ext cx="122400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8000" y="5229360"/>
            <a:ext cx="122400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носит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403280" y="3860640"/>
            <a:ext cx="12970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олнени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азы данных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2771640" y="3860640"/>
            <a:ext cx="136872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мощник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2771640" y="5229360"/>
            <a:ext cx="136872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азыгрыва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реби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4284720" y="3860640"/>
            <a:ext cx="136692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мя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сполни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5796000" y="3860640"/>
            <a:ext cx="1584360" cy="151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 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еребьевк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524720" y="3860640"/>
            <a:ext cx="15112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111600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262728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0" y="364500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0" y="5013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133200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2700360" y="3716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6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428472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2556000" y="508464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5651640" y="3716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8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7451640" y="3645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1" name="Picture 26" descr="j0234131"/>
          <p:cNvPicPr/>
          <p:nvPr/>
        </p:nvPicPr>
        <p:blipFill>
          <a:blip r:embed="rId1"/>
          <a:stretch/>
        </p:blipFill>
        <p:spPr>
          <a:xfrm>
            <a:off x="684360" y="148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7"/>
          <p:cNvSpPr/>
          <p:nvPr/>
        </p:nvSpPr>
        <p:spPr>
          <a:xfrm>
            <a:off x="4140360" y="155736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пециалис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редае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дело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ю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4140360" y="263700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ь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води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аткарточку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565164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таткарточк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30"/>
          <p:cNvSpPr/>
          <p:nvPr/>
        </p:nvSpPr>
        <p:spPr>
          <a:xfrm>
            <a:off x="406728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Oval 31"/>
          <p:cNvSpPr/>
          <p:nvPr/>
        </p:nvSpPr>
        <p:spPr>
          <a:xfrm>
            <a:off x="4067280" y="2492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565164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2556000" y="20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Line 34"/>
          <p:cNvSpPr/>
          <p:nvPr/>
        </p:nvSpPr>
        <p:spPr>
          <a:xfrm>
            <a:off x="3995640" y="20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4859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1" name="AutoShape 36"/>
          <p:cNvCxnSpPr>
            <a:stCxn id="353" idx="3"/>
            <a:endCxn id="354" idx="2"/>
          </p:cNvCxnSpPr>
          <p:nvPr/>
        </p:nvCxnSpPr>
        <p:spPr>
          <a:xfrm flipV="1">
            <a:off x="5508360" y="2491920"/>
            <a:ext cx="82764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37"/>
          <p:cNvSpPr/>
          <p:nvPr/>
        </p:nvSpPr>
        <p:spPr>
          <a:xfrm>
            <a:off x="680400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Line 38"/>
          <p:cNvSpPr/>
          <p:nvPr/>
        </p:nvSpPr>
        <p:spPr>
          <a:xfrm flipH="1">
            <a:off x="539280" y="3645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539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611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6" name="AutoShape 41"/>
          <p:cNvCxnSpPr>
            <a:stCxn id="334" idx="3"/>
            <a:endCxn id="335" idx="2"/>
          </p:cNvCxnSpPr>
          <p:nvPr/>
        </p:nvCxnSpPr>
        <p:spPr>
          <a:xfrm flipV="1">
            <a:off x="1332000" y="4868640"/>
            <a:ext cx="72144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Line 42"/>
          <p:cNvSpPr/>
          <p:nvPr/>
        </p:nvSpPr>
        <p:spPr>
          <a:xfrm>
            <a:off x="2700360" y="4365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349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9" name="AutoShape 44"/>
          <p:cNvCxnSpPr>
            <a:stCxn id="337" idx="3"/>
            <a:endCxn id="338" idx="2"/>
          </p:cNvCxnSpPr>
          <p:nvPr/>
        </p:nvCxnSpPr>
        <p:spPr>
          <a:xfrm flipV="1">
            <a:off x="4140000" y="4868640"/>
            <a:ext cx="82908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Line 45"/>
          <p:cNvSpPr/>
          <p:nvPr/>
        </p:nvSpPr>
        <p:spPr>
          <a:xfrm>
            <a:off x="5651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738036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9036000" y="43657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Досвід Росії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елегування повноважень Голови Суду, Заступників та Суддів апарату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удді сфокусовані на процесі судочинства, а не на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всякденних задача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вага приділяється місцевому рівню, удосконаленню процесів діловодства та розвитку особистос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ується доступність суду для громадян без перешкод для роботи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прощення процесу  подання документів та сплати судових витрат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йом громадян здійснює помічник судді, а не судд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кількості скарг від відвідувачів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оступ до Інтернет ресурсів з судовими рішенням та корисною інформацією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ення кількості професійних публікацій в ЗМІ щодо судових ріш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страху щодо процесу делегуванн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впровадження посібників та навчання персоналу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ізні завдання виконуються по-різному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фесійні навички та потенціал апарату суду стає пріоритетом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71680" y="14288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DSC_0016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4" descr="DSC_0018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Суддя не повинен бачити справу раніше ніж день засідання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84360" y="1413000"/>
            <a:ext cx="1191960" cy="939600"/>
          </a:xfrm>
          <a:prstGeom prst="rightArrow">
            <a:avLst>
              <a:gd name="adj1" fmla="val 50000"/>
              <a:gd name="adj2" fmla="val 3171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еєстраці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8000" y="141300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озподіл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122640" y="143820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ідготовка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о слуха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81640" y="140328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Засідання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луханн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и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688000" y="139536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рийнятт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іше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6932520" y="140976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одальший рух</a:t>
            </a: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рх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Процеси діловодства в суді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Основні процес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06440" y="198108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підготовк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06440" y="297180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 розподілу спра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06440" y="3962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експедиції/  Процес здачі в арх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06440" y="5105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зовнішнього інформ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96000" y="490680"/>
            <a:ext cx="21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84720" y="1197000"/>
            <a:ext cx="2880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Для кого</a:t>
            </a:r>
            <a:r>
              <a:rPr b="1" lang="sv-SE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зацікавлена       особ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(стейкхолдер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Під-процеси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1125360"/>
            <a:ext cx="500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нутрішній стейкхолдер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Клієнт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9280" y="2193840"/>
            <a:ext cx="1909800" cy="349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Д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ова     адміністраці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          СУСПІЛЬСТВ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06440" y="1981080"/>
            <a:ext cx="7045200" cy="762120"/>
          </a:xfrm>
          <a:prstGeom prst="rightArrow">
            <a:avLst>
              <a:gd name="adj1" fmla="val 50000"/>
              <a:gd name="adj2" fmla="val 2315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 справ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06440" y="2971800"/>
            <a:ext cx="7072200" cy="762120"/>
          </a:xfrm>
          <a:prstGeom prst="rightArrow">
            <a:avLst>
              <a:gd name="adj1" fmla="val 50000"/>
              <a:gd name="adj2" fmla="val 23242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повідь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лухання справи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ве засіданн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тримка судд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28760" y="4000680"/>
            <a:ext cx="6786360" cy="761760"/>
          </a:xfrm>
          <a:prstGeom prst="rightArrow">
            <a:avLst>
              <a:gd name="adj1" fmla="val 50000"/>
              <a:gd name="adj2" fmla="val 23253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и адміністрування (управління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06440" y="4876920"/>
            <a:ext cx="7072200" cy="761760"/>
          </a:xfrm>
          <a:prstGeom prst="rightArrow">
            <a:avLst>
              <a:gd name="adj1" fmla="val 50000"/>
              <a:gd name="adj2" fmla="val 2325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89480" cy="426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73280" y="1000080"/>
            <a:ext cx="3798720" cy="48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Кожен процес можна розділити на основні процеси та під-процес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Завжди прочинайте з основних процесів щоб отримати повну картин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уйте процеси зверху-вниз (від основних процесів до під-процесів та складових компонентів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евна кількість пов'язаних  дій з чітким визначенням початку та кінця  і є процес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 процесу - це розподіл його на під-процеси та компонент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268280"/>
          <a:ext cx="83628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224000"/>
                <a:gridCol w="3348000"/>
                <a:gridCol w="1141200"/>
                <a:gridCol w="1271520"/>
              </a:tblGrid>
              <a:tr h="596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чальник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ра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ішення суд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ієнт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му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9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080" y="47628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208764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Лист для перевір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826920" y="2492280"/>
          <a:ext cx="17193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7193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2771640" y="3933720"/>
            <a:ext cx="396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Невеличка робоча група (4-10 осіб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627280" y="2924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бладнання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фліп-чарт, бумаг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лівці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71640" y="34290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риміщення ( зал, кабінет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771640" y="4292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В робочій групі повинні бути представники всіх залучених до процесу підрозділ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771640" y="494172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Співпраця з  керівникам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19:44Z</dcterms:modified>
  <cp:revision>397</cp:revision>
  <dc:subject/>
  <dc:title>Sveriges Domstolar</dc:title>
</cp:coreProperties>
</file>