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75B4-F748-44D7-94C1-BA812B6CAA3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9F6-6F17-4C3B-ABB0-9627BC5B350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AB4E-A4DA-48CC-8EAB-BCDC897F1D3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tandards that will always be met on all occa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F740-C869-44C8-9797-A61D06CD60C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9015-47BE-43B0-8226-49BC8CCC55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45F0-6495-4A8C-B372-CF0E79012C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744-11AA-49F8-A5C5-43DE6B692E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t is important for all client contact staff to be trained in receiving feedback, including assi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lients to articulate their concerns as well as processing and actioning that feedback. Sta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raining should also cover dealing with members of the public, especially those who are lik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o be distres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B5DE-ACE4-4615-A011-886AE6688F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C991-F115-4A67-9034-49691D2FB5F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service charter is not intended to confer legally enforceable rights on clients! Please consider having your charter reviewed by a legal expert to ensure that the wording used does not inadvertently give rise to legal l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8843-E0BB-46B6-BCB1-47121EA2E0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9AAA-9F8E-4A1D-A7C3-630BB32E35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5DA-C050-4DBD-89C6-4DCFEEEA119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454C-1F40-4314-A9EB-19254247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561-18FB-4692-8E9B-2F136534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B7E-189F-4966-8888-7B05AAE6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E57-FFC3-4BD1-8BD3-41807CE5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4168-096D-4967-BE81-029298297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9D29-B6DA-4267-AD63-98C54C6D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5B47-A433-4FDF-B8B0-1B368D16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7F9D-E84F-4992-84F9-A7DA29A0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012E-FBAC-4260-849B-93072D71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EAF5-34D1-4F04-AE07-31E9A96B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A1F9-814D-46BC-A0AC-F63D30B6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7E3-E044-4A62-9E8A-CBDF6599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3EA6-8E70-4AE9-A478-949BA96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EABA-C4A0-46AC-8C27-A73403BC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E5AB-B3DF-4390-9D59-787D70F5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6E57-E34A-4B4C-9C03-92E4500F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3FEC-34AE-4534-958A-59F0DD76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DD8-0A40-49F9-8F23-772BB601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691-D37F-4109-8D87-53BD2A17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363A-CAB4-4C20-B895-F1103490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E92-BA78-4FA9-A7D1-8C6B5B04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936-8092-483E-8C18-47B38FC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CDAE-7776-426F-B1BD-52EB0613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D34-B945-4801-9831-7B91F4C0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EAC0-3670-46A9-96DF-D7A5FA6897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24FB-3330-4FA4-A20E-0BFDC5A53D9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92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progetto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[Nome del relatore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к ми це робимо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358120" cy="473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арантовані стандарти ≠ цільовий стандар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ваші обіцянки ≠ вашої мети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ва комплекти стандартів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ідносин з клієнт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послуг, що надають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кість 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a)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андарти відносин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ітко пояснити клієнтові, що необхідно зробити для того щоб досягти результат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снити, які його права та обов'язки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антувати ввічливий персонал із міжособистісними навичками: дружелюбність, допомога, повага, чуйність до індивідуальних потреб клієнтів, знайомство, пояснювати уважно прислухаючись до клієн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кращуйте власні стандарти відносин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FFJ"/>
          <p:cNvPicPr/>
          <p:nvPr/>
        </p:nvPicPr>
        <p:blipFill>
          <a:blip r:embed="rId1"/>
          <a:stretch/>
        </p:blipFill>
        <p:spPr>
          <a:xfrm>
            <a:off x="1619280" y="1614600"/>
            <a:ext cx="60483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b)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існе надання послуг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(Qo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дусім, надання послуг це відповідь на питання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відомлення ( наявність допомоги в надзвичайних ситуаціях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критості ( листів, форм і публікацій, процеси та іншої інформації про продукт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розумілості (люди з обмеженими можливостями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чності (консультацій, інформації, платежів та порядку заповнення )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повідності (наприклад, придатний для потреб клієнта і умов)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d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ість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дення справи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(Qo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перервність;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івний доступ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оступні ціни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іальна, культурна та екологічна прийнятні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c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ли ми це з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6010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оєчасність надання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значити, скільки часу клієнт чекатиме  поки послуга буде викона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ількісний 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повідь на клієнтські контакти (листи, електронні повідомлення та телефонні повідомлення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обка (реєстрації, заявок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арійної служби (допомогти там, де немає де очікують на послугу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ні служби (наприклад, час, щоб додзвонитися до співробітника, телефон призначень)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илюднення скар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 нас знайти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ітко вкажіть всі способи комунікації між судом і громадськістю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іб залишити відгук щодо самої Хартії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ава та обов'язки клієнт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оскарження і апеляці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подання скарги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недоторканність приватного життя та конфіденційність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інформацію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 на доступ до послуг, об'єктів і інформації таким чином, який би відповідав їхнім потребам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анобливе ставлення до працівників суду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унктуальність участі в запланованих засіданнях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агувати на прохання про надання інформації повною мірою та своєчасно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иконувати будь-які юридичні вимоги та інші зобов'язання, які клієнти повинні мати для того, щоб виявити право на послугу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те відкриті для відгуків та ска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тія надання послуг повинна містити чітку інформацію щодо складання пропозицій та скар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ова вітає відгуки (скарги, похвали і пропозиції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подати скаргу, в тому числі відповідні поштові та електронні адреси і номера телефону і факсу. Включити форми (наприклад, особа, коментар, онлайн відгуки, по телефону, листом, Номер телетайпу для тих, хто глухий, з розладами мови та слуху)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к дати відгук саме щодо хартії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 те, відгук і процес розгляду скарг є доступним, простим у використанні і безкоштовним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д записує дані про кількість скарг, похвал і пропозицій, і ц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овується для поліпшення обслуговування клієнтів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икористання установою такої системи подачі скарг і пропозицій не унеможливлює використання клієнтом інших апеляційних механізмів стосовно якості надання послуг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61657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іноді ви можете отримати компліменти!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ина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2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Як розвивати Харт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ію надання послуг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Схема 6" descr=""/>
          <p:cNvPicPr/>
          <p:nvPr/>
        </p:nvPicPr>
        <p:blipFill>
          <a:blip r:embed="rId1"/>
          <a:stretch/>
        </p:blipFill>
        <p:spPr>
          <a:xfrm>
            <a:off x="457200" y="1195560"/>
            <a:ext cx="822960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9"/>
          <p:cNvSpPr/>
          <p:nvPr/>
        </p:nvSpPr>
        <p:spPr>
          <a:xfrm>
            <a:off x="3059280" y="3429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uk-UA" sz="3600" spc="-1" strike="noStrike">
                <a:solidFill>
                  <a:srgbClr val="000000"/>
                </a:solidFill>
                <a:latin typeface="Tahoma"/>
              </a:rPr>
              <a:t>Навчанн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ржавна служба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38638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ан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а державним органом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іє в загальних інтересах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Універсаль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Для всіх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Рівний доступ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Однакова ці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онсультативний про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73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и підготовці хартії, адміністрація суду повинна консультуватися з клієнтами(громадянами), персоналом та іншими ключовими зацікавленими сторонами у зв'язку з: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бором стандартів послуг для включення до хартії;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Налаштування гарантії послуг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значення розміру і рівня деталізації в хартії;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Arial"/>
              </a:rPr>
              <a:t>вирішити, яким чином будуть контролюватися положення хартії та обов'язки її виконавців.</a:t>
            </a:r>
            <a:r>
              <a:rPr b="0" lang="uk-UA" sz="3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57120" y="5950080"/>
            <a:ext cx="824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Клієнти + Зацікавлені сторони = Поговори з / Зустрінься з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2.2 </a:t>
            </a: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Формат і стиль харт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= Зробити його читабельним і зрозумілим кожном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Спланувати стиль написання презентації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никнути правового жаргон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ротка, проста і зручна для користувачів презентація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Доступні формати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Переклад на інші мови, окрім української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оступні веб-сайти;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Шрифт Брайл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Аудіо запи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Друк крупним шрифто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зайн, який відповідає потребам широкої клієнтської бази (наприклад, хороший контраст між фоном і текстом, використання кольору, розміру тексту і зображень без тла під текстом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3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провадження та поширен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учний запуск Міністром або відповідною посадовою особою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мпанія в ЗМІ та  комунікаційна стратегія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інформації і розподіл хартії для всіх співробітників, клієнтів і зацікавлених сторін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ширення хартії по всіх можливих контактах клієнта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міщення на веб-сайт Суду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та аналі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артія надання послуг є живим документом живої організац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своєння уроків є одним із засобів поліпшити рівень надання послуг і самої Хартії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питай себе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ми дізналися після перших хартій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Що у нас поліпшилося  за цей час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она як і раніше відображає реальність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ідхід до обслуговування клієнтів судом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отреби і пріоритети клієнтів та ключових зацікавлених сторі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сучасне точності?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відповідає формат, дизайн потребам клієнтів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кі були зібрані відгуки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Чи потрібно вносити зміни в процес розгляду скарг?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Стандарт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лієнтських відгуків і скар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ідгуків про хартію надання послуг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иконанн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Відповідальност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Перегляд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826920" y="4653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... і доповісти!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 </a:t>
            </a:r>
            <a:br>
              <a:rPr sz="4400"/>
            </a:b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- це інформаційний паке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щод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 що надаються Суд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треб ваших клієнтів та зацікавлених сторі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ний документ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ява про основні права громадя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 принципи, що регулюють надання їм послуг в державних установа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обов'язання, (не правовий докумен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bundesbrief"/>
          <p:cNvPicPr/>
          <p:nvPr/>
        </p:nvPicPr>
        <p:blipFill>
          <a:blip r:embed="rId1"/>
          <a:stretch/>
        </p:blipFill>
        <p:spPr>
          <a:xfrm>
            <a:off x="5364000" y="278136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артія надання послуг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ітко визначає суд, призначення суду, його клієнтської бази та перелік послуг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становлює зв’язок між судом та тими хто ним користуєтьс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тановлює клієнтом агентства стандарти обслуговування клієнтів і права та обов'язк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ліч способів отримання зворотного зв'язку та обробки запитів клієнтів і скарги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озробляється в ході консультацій з клієнтами, персоналом та іншими ключовими зацікавленими сторон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іодичний моніторинг та огля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о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ослуга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Прозор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Звіт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Вимірні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Комунікаці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Участь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ручність для користувач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вчання та підвищення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включається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Основна інформація стосовно Суду;</a:t>
            </a: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Надяння послуг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5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Стандарти обслуговування;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пособи зв'язку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ава та обов'язки осіб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ідгуки і скарги громадя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то ми такі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кладинка, яка чітко ідентифікує документ як Хартію обслуговування клієнті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сновні відомості про суд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Перелік персоналу;</a:t>
            </a:r>
            <a:r>
              <a:rPr b="0" lang="it-IT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клади зая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лієнтська база (фактична або потенційна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то є зацікавленими сторона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Клієнти проти зацікавленої сто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42116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Клієнти: ті, кому суд безпосередньо надає послуги (внутрішні + зовнішні)</a:t>
            </a:r>
            <a:r>
              <a:rPr b="0" lang="uk-U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Громадя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Юри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удді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Співробітн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'язні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05160" y="1483920"/>
            <a:ext cx="3787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Зацікавлена сторона: ті хто безпосередньо зацікавлені в успішній діяльності Су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ержав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інші урядові установ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бізнес-груп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люди з додатковими або особливими потребами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51"/>
          <p:cNvSpPr/>
          <p:nvPr/>
        </p:nvSpPr>
        <p:spPr>
          <a:xfrm>
            <a:off x="1258920" y="5229360"/>
            <a:ext cx="705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52"/>
          <p:cNvSpPr/>
          <p:nvPr/>
        </p:nvSpPr>
        <p:spPr>
          <a:xfrm>
            <a:off x="684360" y="5516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права: спробуйте позначити клієнтів і зацікавлених сторін вашого Суду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Що ми робимо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значення (місія)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позиція, цілі хартії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ік послуг, що надаються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ahoma"/>
              </a:rPr>
              <a:t>Дата публікації хартії;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та проведення наступного огляд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Tahoma"/>
              </a:rPr>
              <a:t>Місія– це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06:42Z</dcterms:created>
  <dc:creator>pippo</dc:creator>
  <dc:description/>
  <dc:language>en-US</dc:language>
  <cp:lastModifiedBy>lipovyi</cp:lastModifiedBy>
  <dcterms:modified xsi:type="dcterms:W3CDTF">2013-08-01T09:33:00Z</dcterms:modified>
  <cp:revision>65</cp:revision>
  <dc:subject/>
  <dc:title>Service Char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2</vt:r8>
  </property>
</Properties>
</file>