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90C5-EDD2-472F-B739-3E276895F04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C692-C117-4709-8D4E-497EE016FE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D595-F283-4D3A-B2AC-C85AF9A0DD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E695-F953-4E1D-BED1-B840BF4BC64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5E3E-7801-48E1-8585-28E8F15C990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47C6-B760-40CB-B3E9-2DAE90292BC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1ADB-F4E2-45B4-8BDF-F7E12EEA7A5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1105-80CA-4D8B-BD31-4F013DEDCF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1A43-75C5-4538-B5A2-82D921DA915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249-F212-4970-A521-F72E175E0D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E5AF-F8B7-4DA0-8761-8FD8C6C843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AB5A-A3AE-411F-A0A8-6D1B658DA6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17B-DDA8-43BA-83EC-605059C2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1849-F81F-45E2-AAF1-98950604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935-D398-4EE5-A2A5-EE01F8CA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398-F8CE-463E-A509-3EF245D2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EF76-327E-49E3-B173-07C06F95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13DD-8E5E-49A5-B68D-C2C90E32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C1F-00B9-4D69-BF94-391ABF2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15E2-CF2C-418E-87A8-3A494E2D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E3B-D748-414A-B173-B81B120F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C8D6-B9EE-4A2C-9D42-888E6F0C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C8BB-782C-419C-B06D-3D4D8CA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49D-98C9-4D30-BF0E-9B35A58F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764-45BF-41B1-A0D1-9633822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0459-AEE5-4452-AF8A-F5081705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AD57-DBE3-476A-9734-53069853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921A-8453-4AE0-B11E-3B2C7E3B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4462-6343-415D-ACB3-ADFFCE5B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DEA-0625-4802-B184-3EAA9EB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F7E-7A81-4047-BF4D-EEFBA0F0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1C7-431E-4812-984E-46418D14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F8E-1365-4D90-A8D6-0369639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CF4-7027-4185-BE60-6D684B28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EEB-9327-400A-88D5-64B457E2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6A1-D6A6-41E8-8741-B84F7B2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D45C-758F-4F9F-88EC-65004AB687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8F94-0CC0-455F-97C3-FADEBADB1F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к ми це робим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58120" cy="47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рантовані стандарти ≠ цільовий стандар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аші обіцянки ≠ вашої ме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ти стандарті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ідносин з клієнт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послуг, що надають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и віднос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ітко пояснити клієнтові, що необхідно зробити для того щоб досягти результа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снити, які його права та обов'язки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увати ввічливий персонал із міжособистісними навичками: дружелюбність, допомога, повага, чуйність до індивідуальних потреб клієнтів, знайомство, пояснювати уважно прислухаючись до кліє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ращуйте власні стандарти відносин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b)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існе надання послуг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Q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дусім, надання послуг це відповідь на питання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ідомлення ( наявність допомоги в надзвичайних ситуаціях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критості ( листів, форм і публікацій, процеси та іншої інформації про продукт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розумілості (люди з обмеженими можливостями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ності (консультацій, інформації, платежів та порядку заповнення 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повідності (наприклад, придатний для потреб клієнта і умов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d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ість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дення справи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Q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перервність;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івний доступ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упні ціни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іальна, культурна та екологічна прийнятні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ми це з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єчасність надання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значити, скільки часу клієнт чекатиме  поки послуга буде викон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лькісни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повідь на клієнтські контакти (листи, електронні повідомлення та телефонні повідомлення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обка (реєстрації, заявок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ійної служби (допомогти там, де немає де очікують на послуг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і служби (наприклад, час, щоб додзвонитися до співробітника, телефон призначень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илюднення ска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 нас знайти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ітко вкажіть всі способи комунікації між судом і громадськіст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іб залишити відгук щодо самої Харті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ва та обов'язки кліє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оскарження і апеляці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подання скарги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недоторканність приватного життя та конфіденційність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інформаці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доступ до послуг, об'єктів і інформації таким чином, який би відповідав їхнім потреб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анобливе ставлення до працівників суду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нктуальність участі в запланованих засідання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увати на прохання про надання інформації повною мірою та своєчасно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онувати будь-які юридичні вимоги та інші зобов'язання, які клієнти повинні мати для того, щоб виявити право на послугу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те відкриті для відгуків та ска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тія надання послуг повинна містити чітку інформацію щодо складання пропозицій та скар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а вітає відгуки (скарги, похвали і пропозиції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подати скаргу, в тому числі відповідні поштові та електронні адреси і номера телефону і факсу. Включити форми (наприклад, особа, коментар, онлайн відгуки, по телефону, листом, Номер телетайпу для тих, хто глухий, з розладами мови та слуху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дати відгук саме щодо харті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 те, відгук і процес розгляду скарг є доступним, простим у використанні і безкоштовним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д записує дані про кількість скарг, похвал і пропозицій, і ц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овується для поліпшення обслуговування клієнтів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ання установою такої системи подачі скарг і пропозицій не унеможливлює використання клієнтом інших апеляційних механізмів стосовно якості надання послу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іноді ви можете отримати компліменти!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 розвивати Хар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ю надання по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хема 6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Нав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жавна служба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ан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 державним орган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іє в загальних інтерес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ніверсаль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ля всі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вний дост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днакова ці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сультативний про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підготовці хартії, адміністрація суду повинна консультуватися з клієнтами(громадянами), персоналом та іншими ключовими зацікавленими сторонами у зв'язку з: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бором стандартів послуг для включення до хартії;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Налаштування гарантії по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значення розміру і рівня деталізації в хартії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рішити, яким чином будуть контролюватися положення хартії та обов'язки її виконавців.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7120" y="59500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лієнти + Зацікавлені сторони = Поговори з / Зустрінься з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ормат і стиль харт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Зробити його читабельним і зрозумілим кожном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планувати стиль написання презентації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нути правового жарго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отка, проста і зручна для користувачів презентація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ступні форма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ереклад на інші мови, окрім українсько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оступні веб-сайти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рифт Брай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удіо запи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рук крупним шрифт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айн, який відповідає потребам широкої клієнтської бази (наприклад, хороший контраст між фоном і текстом, використання кольору, розміру тексту і зображень без тла під текстом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овадження та поши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чний запуск Міністром або відповідною посадовою особо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мпанія в ЗМІ та  комунікаційна стратегія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інформації і розподіл хартії для всіх співробітників, клієнтів і зацікавлених сторін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ширення хартії по всіх можливих контактах клієнта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міщення на веб-сайт Су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та аналі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тія надання послуг є живим документом живої організац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воєння уроків є одним із засобів поліпшити рівень надання послуг і самої Харт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питай себ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ми дізналися після перших хартій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у нас поліпшилося  за цей час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она як і раніше відображає реальність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ідхід до обслуговування клієнтів суд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 і пріоритети клієнтів та ключових зацікавлених сторі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сучасне точності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формат, дизайн потребам клієнтів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кі були зібрані відгуки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потрібно вносити зміни в процес розгляду скарг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тандар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ієнтських відгуків і скар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гуків про хартію надання послу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повідальност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гляд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82692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доповісти!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 це інформаційний пак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що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 що надаються Су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треб ваших клієнтів та зацікавлених сторі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ний докумен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ява про основні права громадя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ринципи, що регулюють надання їм послуг в державних устан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обов'язання, (не правовий докумен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ітко визначає суд, призначення суду, його клієнтської бази та перелік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тановлює зв’язок між судом та тими хто ним користує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ановлює клієнтом агентства стандарти обслуговування клієнтів і права та обов'язк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ліч способів отримання зворотного зв'язку та обробки запитів клієнтів і скарг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робляється в ході консультацій з клієнтами, персоналом та іншими ключовими зацікавленими сторо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іодичний моніторинг та о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о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зор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віт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мір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унікаці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ручність для користувач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чання та підвищенн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включається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на інформація стосовно Суду;</a:t>
            </a: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Надяння послуг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Стандарти обслуговування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и зв'яз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а та обов'язки осіб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ідгуки і скарги громадя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то ми такі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кладинка, яка чітко ідентифікує документ як Хартію обслуговування клієнт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і відомості про суд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Перелік персоналу;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клади зая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ієнтська база (фактична або потенційна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то є зацікавленими сторон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ієнти проти зацікавленої сто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лієнти: ті, кому суд безпосередньо надає послуги (внутрішні + зовнішні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Громадя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Юри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удд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івробі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'язн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цікавлена сторона: ті хто безпосередньо зацікавлені в успішній діяльності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нші урядові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ізнес-груп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юди з додатковими або особливи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права: спробуйте позначити клієнтів і зацікавлених сторін вашого Суду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ми 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чення (місія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зиція, цілі харт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ік послуг, що надають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ата публікації хартії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а проведення наступного огля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Місія– це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3:00Z</dcterms:modified>
  <cp:revision>65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