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52CD-81E4-438C-8E2F-2E2243241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7361-8B6D-46F1-A4AE-F61235370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B24E-0691-4A6F-A61E-C23773E6FA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E3B-0A7F-4DE2-A101-34146799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1E5-3AC1-4FD3-A49E-49E1A174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991-5A4F-4F54-8518-F8F3E15C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A08-77A9-45C4-B37F-CF705F2E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D73-5AC7-4C7B-BA5B-18E199C6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5D6-3A47-4C32-B1D3-6D8A89C9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C3B9-EE4A-460C-A2E6-45023C1A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D44-8168-4C64-B1C6-9CA23FDB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A8EB-2882-4AF4-8007-974D7AFF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8DB-4BE3-4226-8D72-3B82BB3B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7F9C-6256-4BB1-AAE8-15F32AD6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EEA-3FD7-475C-82A8-0630B916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15D9-A556-492A-A6C1-40A0E8F4C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200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Зв'язки з громадськістю -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спільн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довір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 та конфіденційніст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в суд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276720" y="5943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ведські су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ov_center"/>
          <p:cNvPicPr/>
          <p:nvPr/>
        </p:nvPicPr>
        <p:blipFill>
          <a:blip r:embed="rId2"/>
          <a:stretch/>
        </p:blipFill>
        <p:spPr>
          <a:xfrm>
            <a:off x="3352680" y="4419720"/>
            <a:ext cx="2305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Garamond"/>
              </a:rPr>
              <a:t>Важливі факт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ступність судів та працівників суду для сторін т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свідкі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Відношення в суді до сторін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а свідк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Процесуальні строки у су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зорість процесу прийняття судових ріш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Формулювання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рішень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та ух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ким чином діяльність судів зображується в засобах масової інформ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Обізнанність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широкої громадськості про те, що відбувається в судах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П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оведінк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 судд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Заходи щодо поліпшення процесу прийому громадян, та учасників проц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явність рекомендацій та вимог до співробітників суду відповідальних за прийом громадян щодо спілкування із  учасниками проц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егкий доступ громадян до електронної, телефонної та письмової інформації суду.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явність інформації щодо правил та вимог участі сторін у процесі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провадження «Приймальні громадян»- окремого структурного підрозділу або визначення відповідального фахівця  з метою поліпшення звязків з громадскісьтю  та ЗМ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сонал суду має пройти навчання щодо прийому громадян та спілкуванню з учасниками проц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Заходи щодо вдосконалення формулювань  судових докумен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провадження офіційних рекомендацій та вимог щодо оформлення судових документів (рішень, ухвал,п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останов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тощ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Рекомендації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щодо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икористання формулювань при написанні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судових документів (рішень, ухвал,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вирок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ів тощ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Працівники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суду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відповідальні за розробку судових документів мають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пройти підготовку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з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написання судових докум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Необхідні заходи щодо покращення  відносин  судів із засобами масової інформ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і –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ють знаходити час на спілкування з ЗМІ щодо справ які вони розглядають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и судів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нні сприяти створенню атмосфери відкритості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нформаці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й в суді якщо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іст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групп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в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ю 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 регулярного обміну досвідо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итань спілкування із ЗМ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а судова адміністраці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ль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ідготовку судді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апарату су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итаннь взаємодії із ЗМ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-служба Національної судової адміністрації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відпр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журналістів та інших осіб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никли питання з приводу діяльності суді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ар суду у Швеції 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іційно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ти суди і на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нформацію про діяльність суд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Інші заходи для зміцнення довіри в су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ращі веб-сай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оступ сторі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учасників процесу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до інформації про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ід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прав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лектронне діловодст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 су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оби спілкування з громадськістю, відкритий доступ до інформації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блоги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фесійні спільноти тощ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ьш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відкритість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ової систе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ідвідува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шкі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ень відкритих дверей в суд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24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