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5C95-9862-4027-B06F-F5C5C55917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9A69-B13F-4F60-8D89-BC5EC6A652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bild - välkom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CEED-FE47-4385-8A77-DB252F0C56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94D6-E559-4C90-89A4-FDCFD8404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E936-0C3F-4F56-827B-1356A522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AB5A-64A6-4CE3-902C-9279C651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1460-C14C-4160-A8F8-CC60EAE9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14FA-7DF9-4810-A7F9-8AB274F3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65D4-4183-43D9-9460-46812DC4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A521-5EBE-4795-A8E4-ABF14A86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97A6-54DD-4E61-BC4C-24A1A4B7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76B5-8C9B-4116-AFD0-AA0FBE3E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120E-13C1-49CE-93B8-5350BCF3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09C1-C2EC-4765-9D52-ED568A9D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0431-EF24-43D0-8B44-82506C38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D938-5C6D-46E0-B346-492F0A48CF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56908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499"/>
              </a:lnSpc>
              <a:spcBef>
                <a:spcPts val="2200"/>
              </a:spcBef>
              <a:spcAft>
                <a:spcPts val="19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Зв'язки з громадськістю -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успільн</a:t>
            </a: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довір</a:t>
            </a: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 та конфіденційність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в суд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63440" y="2349360"/>
            <a:ext cx="8980560" cy="1994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3276720" y="594360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Шведські су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dov_center"/>
          <p:cNvPicPr/>
          <p:nvPr/>
        </p:nvPicPr>
        <p:blipFill>
          <a:blip r:embed="rId2"/>
          <a:stretch/>
        </p:blipFill>
        <p:spPr>
          <a:xfrm>
            <a:off x="3352680" y="4419720"/>
            <a:ext cx="2305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333399"/>
                </a:solidFill>
                <a:latin typeface="Garamond"/>
              </a:rPr>
              <a:t>Важливі факто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оступність судів та працівників суду для сторін та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свідків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Відношення в суді до сторін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та свідкі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Процесуальні строки у суд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розорість процесу прийняття судових ріш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Формулювання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рішень </a:t>
            </a: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та ух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Яким чином діяльність судів зображується в засобах масової інформаці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Обізнанність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широкої громадськості про те, що відбувається в судах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П</a:t>
            </a: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оведінк</a:t>
            </a: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а</a:t>
            </a:r>
            <a:r>
              <a:rPr b="0" lang="sv-SE" sz="2400" spc="-1" strike="noStrike">
                <a:solidFill>
                  <a:srgbClr val="000000"/>
                </a:solidFill>
                <a:latin typeface="Trebuchet MS"/>
              </a:rPr>
              <a:t> судді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Garamond"/>
              </a:rPr>
              <a:t>Заходи щодо поліпшення процесу прийому громадян, та учасників проце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Наявність рекомендацій та вимог до співробітників суду відповідальних за прийом громадян щодо спілкування із  учасниками проце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Легкий доступ громадян до електронної, телефонної та письмової інформації суду.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Наявність інформації щодо правил та вимог участі сторін у процесі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Запровадження «Приймальні громадян»- окремого структурного підрозділу або визначення відповідального фахівця  з метою поліпшення звязків з громадскісьтю  та ЗМ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ерсонал суду має пройти навчання щодо прийому громадян та спілкуванню з учасниками процес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Garamond"/>
              </a:rPr>
              <a:t>Заходи щодо вдосконалення формулювань  судових документ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Впровадження офіційних рекомендацій та вимог щодо оформлення судових документів (рішень, ухвал,п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останов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 тощ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Рекомендації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 щодо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використання формулювань при написанні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судових документів (рішень, ухвал, 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вирок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ів тощ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Працівники 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суду 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 відповідальні за розробку судових документів мають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 пройти підготовку 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з</a:t>
            </a:r>
            <a:r>
              <a:rPr b="0" lang="en-GB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 написання судових документі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Garamond"/>
              </a:rPr>
              <a:t>Необхідні заходи щодо покращення  відносин  судів із засобами масової інформа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ді –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ють знаходити час на спілкування з ЗМІ щодо справ які вони розглядають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и судів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инні сприяти створенню атмосфери відкритості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н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і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д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ти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нформацію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іа-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д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тній в суді якщо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а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ідність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іа-группа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іа-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д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в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ою д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я регулярного обміну досвідом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 питань спілкування із ЗМ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іональна судова адміністрація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альн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ідготовку суддів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апарату суд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 питаннь взаємодії із ЗМІ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-служба Національної судової адміністрації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 відпр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ю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чк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ю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журналістів та інших осіб,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никли питання з приводу діяльності судів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-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ар суду у Швеції -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іційно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ти суди і над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ти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нформацію про діяльність суді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Garamond"/>
              </a:rPr>
              <a:t>Інші заходи для зміцнення довіри в суд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Кращі веб-сайт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Доступ сторін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(учасників процесу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до інформації про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ід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прави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Електронне діловодство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в су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соби спілкування з громадськістю, відкритий доступ до інформації: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блоги,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фесійні спільноти тощо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ільша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відкритість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удової систе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ідвідування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шкі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День відкритих дверей в суд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povyi</cp:lastModifiedBy>
  <dcterms:modified xsi:type="dcterms:W3CDTF">2013-08-01T09:24:11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