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1FED-03FB-46DD-9122-2F4B2D797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D845-AD03-4CF3-8C2F-1BD11CFA4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81CB-CF1A-4949-BD43-3DACE20714B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B27C-0B45-4955-B9F0-6BAC8E147A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84B-CBCD-4640-854B-2FC435F5085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823-2677-4FD0-8B18-E068584FCE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E48-02D3-459F-94DA-CC9AB569EC2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80ED-D395-4B21-89DB-50B68736F4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539-EF94-4366-A6B2-2D47B761348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26BC-6138-4B43-BAAE-6A301D17F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62A8-9D3E-4676-852C-08DE07E7CA35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FD0B-A6C4-4065-8CAE-4C78121E3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2C9-3483-405A-8987-058C76B32A8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AD0-3F49-4F7D-AB1F-A0FB2D0E7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2769-4950-4272-8EF4-2EF7C51DEB49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38C1-0730-4E4A-B2AB-F73A748C8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215-50ED-4180-94FC-5ED601403A0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6A6C-894A-409F-88DE-DFB13869A3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C15B-A095-4B12-B61E-F3596DBEC36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A6F7-E08B-4B13-835B-95D4BAA8F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F063-FBBC-4A0E-B0A2-5278D32BAE50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DCD1-77EC-48C3-876D-884F728468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9D5-20A3-4CF2-888D-DB82CF34A096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BADD-A54F-415D-B10D-4A97875943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23A0-B33B-46CF-9813-BD1A070488C2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649B-35BE-4936-8F5D-4E1E92457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394F-53D9-447A-8970-4642125B509A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E67-EA6A-4175-B2EE-7FEAF5DA0A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DFB3-F15E-4F70-B46A-2D3A4697213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D5FF-91F4-4E88-9C76-FA1C3C5039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F62E-AD1E-46CB-9740-C72DB9EFC1C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9755-69DB-47C2-ABDE-D4F45E1F37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FFE7-0142-4653-97AE-DD4C83888F0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DC4-EDDB-4A84-AEA6-14C74E733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EDD3-A3C1-4F1F-A5E6-BD5AC3977E43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B26B-321D-4C6A-9905-A27D3A8D97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4D4A-B049-4C87-AC0A-7CEA6E38200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37E-00E8-4E14-AAD1-87FC5E148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F4D-DD52-45B8-A748-1C1115FA2F2C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439A-40CB-4925-89D1-29F291607B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B534-5003-4C02-90E3-7DA597594E7D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1A5F-14FE-4BD9-98F7-F031ABF60A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2619-4719-4FF1-A3DF-644676132EF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9BBC-DA2C-46C1-80F0-6539559442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FCB7-932B-4AB2-BE0D-9D4358C1947B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DE4-05A2-451D-9B05-1AF3002C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A6D-3D53-4978-88D5-EE67F855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A1C-29C2-4B45-B33C-4E194FDF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C35-9C92-4125-898F-8DC7C20C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634-7B61-463A-9D93-F4BE809E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9DF-8A34-4F37-8285-10D07B97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41F-3D96-430F-B9DB-CFEF1776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ECD0-60C7-4272-98CD-4AD23525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333-2519-4CA2-9C2B-B8EFFC9F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910-C489-4114-AC92-DF22232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5BD-A488-4E45-838D-19A11B3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5EE-0A31-49E8-B399-3F99BB63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A0D-547B-4507-892F-5A3887AF2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64000" y="1294920"/>
            <a:ext cx="3780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Garamond"/>
              </a:rPr>
              <a:t>Даріо Куінтавал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ністерство юстиції Італ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ерівник апарат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ружний суд з нагляд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виконанням пок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іста 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quadriga"/>
          <p:cNvPicPr/>
          <p:nvPr/>
        </p:nvPicPr>
        <p:blipFill>
          <a:blip r:embed="rId1"/>
          <a:stretch/>
        </p:blipFill>
        <p:spPr>
          <a:xfrm>
            <a:off x="324000" y="137160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глядове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ribuna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нує функції, я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ершої інстанції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так і суду апеляційної інстанції з питань виконання покаран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я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 нагляду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agistra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rveglianza) є суддею першої інстанції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 нагляду за виконанням покаран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л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+ 2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д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сперті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питан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соці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х проблем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світ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сихіатрії та кліні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римінолог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міста Р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розглядає справи загальнонаціонального значен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Будьте нашими друзям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book: Tribunale di Sorveglianza di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ckr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ща Рада Судді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олює Президент Республі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ирається усіма судд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начає Голів судів та Прокуро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іє як дисциплінарний суд для судді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іністерство Юсти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значення суддів, адвокатів, нотаріусів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парат суд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основни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партамен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дова Адміністр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”язниц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венальна юстиці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конотворчий департ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.000 співробітник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ерівники апара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овц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іністерства юстиц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повідальні за кадров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рганізац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йне 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інанс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ве забезпеченн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звітн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ін'юс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ада запроваджена 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основних злочинних організації (M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афі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кремий в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лоч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"мафіозні об'єднання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: Національне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управлінн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і з маф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A: Національний прокурор по боротьбі з мафією під наглядом Генерального прокурора Кас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іціює 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орди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є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зслідуван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DA: Районні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правлінн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боротьби з мафією (2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: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Окреме агенств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іції боротьбі з мафіє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з організованою злочинніст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628640"/>
            <a:ext cx="84582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утримання у в»язниці : Мафія + тероризм + наркотик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користування телефоно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спілкування або листування з іншими ув'язнени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зустрічі з третіми сторон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меження на побачення (членам родини дозволено один раз на місяць за умови спілкування через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m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всте скл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тримання або відправлення грошей (більше встановленої су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організацію культурних, рекреаційних та спортивних заход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голосування або стоячи у виборах тюремних представникі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борона на участь у мистецькій і ремесленіцькій діяльност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Боротьба проти організованої злочинност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іста Рим діє на загальнонаціональному рівні як апеляційний 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(4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 decre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фіскація всіх активів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а статків 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альшим призначенням на соціальні ці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о Італію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”єдна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ї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з 1861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мократична Республіка з 1946 рок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раїна-член Европейського Сою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новник НА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 показниками виробництва ВВП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іт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тема охорони здоров'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за оцінками Всесвітньої Організації Здоров”я посіда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місц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ві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Колиска закону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ий в світі університет (Юридичний факультет Боло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ї 1088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ша країна,в якій було скасовано смертну кару (178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лен E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рою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очні пробле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ганізована злочинні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со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румпован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стій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нфлікт між політикою та судо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ю системо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кількість відкладених спра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вільного судочинства (5 мільйонів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дмірн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вал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гляду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иміналь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их спра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є справи за порушення ЄКПЛ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Європейська Конвенція з Прав Люд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бтяжую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законодавств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,00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процес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дифікац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aramond"/>
              </a:rPr>
              <a:t>Найбільш важливий італійський внесок в  українську систему судоустрою Поки щ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авові машини Еспресс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!  </a:t>
            </a:r>
            <a:r>
              <a:rPr b="0" lang="en-US" sz="4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питанн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Відповіді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Населення та імміграц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60.0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4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млн. іммігрант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&gt; 300.000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українці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( “Badanti” =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доглядальниці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Уряд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а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ерховенство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ко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ала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арла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ря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залежна судова вл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еспублі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емер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і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Регіон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ституці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ту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міністративні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іональний закон (не в цивільних і кримінальних справ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Юрисдикц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ституційний су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галь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циві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 кримін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дміністративний суд бухгалтер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ійсков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іскаль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гістр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000 (+ 3500 почесних судді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залежність  та самовряд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курори+ Судд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ираються за конкур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єрний зріст за старш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ока репутація і прести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7 магістратів вбито (1969 - 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9"/>
          <p:cNvSpPr/>
          <p:nvPr/>
        </p:nvSpPr>
        <p:spPr>
          <a:xfrm>
            <a:off x="4427640" y="5300640"/>
            <a:ext cx="42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жованні Фальконе -  Паоло Борселі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удова систем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Циві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риміналь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аса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пеляційний с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першої інстанці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ировий судд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Каса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неральний прокурор при Апеляційному суд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ержавний обвинув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курори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входять до склад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іаль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ідділ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ліції (судової поліції), координують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слідування тощ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истема правосудд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 мати 3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ових засідання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ішенн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е є остаточн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не підлягає виконанн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до Касації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кщо Каса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ю відхил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значають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ві слух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пеляці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це нові рішення, а не перегляд прецедентної постанови (Novum judic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іякого суду присяжних, але більшість серйозних справ, розгля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аєтьс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виїздни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удом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до складу якого входять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есійних суддів, Giudici Togati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а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професій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udici Popo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0,000 осіб за гратами ( ½ з них громадяни інших держав… Українців не багато), дуже часто оголошується амніст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титуція забороняє негуманне поводження з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д з нагляду за виконанням покарань найголовніша ланка виправної систе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иймає рішення про випробний термін (умовне покаран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иконує рішення 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понує альтернативні засоби відбування покар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безпечує заходи безп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5:08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