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7401-2C49-46A8-9719-F914214C55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E86F-081C-4BFF-8C0C-B0099FEF54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7C69-BFC6-48C0-B7BD-5D4C557CC131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DA81-9948-4069-8597-19264DFDA6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3D01-C3FB-43C9-8DE5-EE18E8FAE56C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FD02-9813-4D85-8572-A402660CD6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3810-41B8-48AB-8060-039837AA3D13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Well, you have probably seen the film “Angels and Demon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0A90-4ECD-43E0-A3DF-C64D8C5FF2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8FCD-6BF5-42F0-B476-BD798A7A4B0A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026A-E175-4947-AC97-7D0E5026DB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6509-5559-4921-BCB0-9D353471FB46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778A-76A6-4A2F-98AA-E358DB6CD0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F60A-7495-4D55-A5EE-DAAA8D0B9EB2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1BC3-DA37-4B44-9CFA-4D07410539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FA6D-2B09-4D7D-ACCB-3E54EC185CF1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6151-DFD3-4DF3-B7B2-84FDB37A60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E2EA-2BCF-4601-A367-6FF53A678859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7C10-21D1-47F0-A96E-75B2A833DF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8DE8-C909-4DBE-B001-8880B71264A0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DEF7-22FC-4FFD-ACA5-EB1D340B20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F39E-E39C-4EBB-A165-CB8461290F19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824B-37AF-444D-B325-4F2E116E73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2A08-9657-478E-9B8E-5DACF38367D9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5DFB-11DB-451E-A3D0-624A843CCD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8A10-A924-4641-9DD6-25C40BFD1ECD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B883-7E96-4271-A29D-ACA564EF03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008E-88F5-4F62-834E-EB424CF51442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F4F5-77B7-4834-A34B-D2910A3775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678A-979C-4102-9197-EFB3A807D192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5EBB-0600-4726-A88A-ADFD1ADFAA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75EB-65B0-494F-B5C2-2A95BE52D4C5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236C-CE6A-4E0C-8F54-F60275F79F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7C17-AF5E-4BDA-A42F-01488F29A94C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97EF-5A7F-4098-84AD-E981E6DAE8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E16E-8DD7-469C-9F88-632DB9B097C2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47F1-F3CA-432A-BD49-16A4D62F33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C283-3E7D-4B6C-B34C-082A81D8795B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67AD-CC37-414A-B884-35A42BB440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753A-7E6F-4C26-A5B5-7E4AF4E05387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EEA5-3670-49A4-B77B-FF309F1B77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42A1-DDB3-4246-804C-1F1205D4BAF9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BF61-9073-48A4-8C7C-0F8AA8E82B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C929-8BFE-4D3D-9033-7021AB71FABE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4AE1-94DE-43D5-8DD0-B63A249519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EEBC-F4BE-49FE-925A-C57FE9845670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CCC4-AB85-479D-B4ED-64CA8F22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B949-E202-43A8-BA5B-94F6940E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CE5F-B585-4348-A480-A067CE2D8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E5F9-015A-4EA9-B7B1-E85B38E39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476D-6476-46A1-A929-2A23199F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67E0-0ED0-4412-9A8C-73030388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70AD-004F-4C76-9AD6-79027EEA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E054-E9F4-489F-9A3E-B3FCAD80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C2C1-D05A-4B26-8FFF-4D22F192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8F3D-1475-4F33-8EFB-16115F59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2D4C-9DA0-4914-8A98-FED17A0F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80CB-C70F-4840-A6A7-8BBDB21B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D11C-0023-4A35-8093-709D759899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ribsorvroma.wordpress.com/" TargetMode="External"/><Relationship Id="rId2" Type="http://schemas.openxmlformats.org/officeDocument/2006/relationships/hyperlink" Target="http://twitter.com/tribsorv" TargetMode="External"/><Relationship Id="rId3" Type="http://schemas.openxmlformats.org/officeDocument/2006/relationships/hyperlink" Target="http://www.flickr.com/photos/46730249@N02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стема судоустрою Італії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64000" y="1294920"/>
            <a:ext cx="37800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Garamond"/>
              </a:rPr>
              <a:t>Даріо Куінтавал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іністерство юстиції Італ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ерівник апарат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ружний суд з нагля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виконанням покар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іста 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quadriga"/>
          <p:cNvPicPr/>
          <p:nvPr/>
        </p:nvPicPr>
        <p:blipFill>
          <a:blip r:embed="rId1"/>
          <a:stretch/>
        </p:blipFill>
        <p:spPr>
          <a:xfrm>
            <a:off x="324000" y="137160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Наглядове правосудд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д з нагляду за виконанням покаран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ribuna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rveglianza)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конує функції, я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д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ершої інстан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так і суду апеляційної інстанції з питань виконання покарань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ддя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д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 нагляду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за виконанням покаран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agistra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rveglianza) є суддею першої інстанції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д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з нагляду за виконанням покаран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ле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 + 2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дд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кспертів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 питан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сихолог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соціаль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их проблем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світ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сихіатрії та клініч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римінолог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уд з нагляду за виконанням покарань міста Р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DSC04275p"/>
          <p:cNvPicPr/>
          <p:nvPr/>
        </p:nvPicPr>
        <p:blipFill>
          <a:blip r:embed="rId1"/>
          <a:stretch/>
        </p:blipFill>
        <p:spPr>
          <a:xfrm>
            <a:off x="324000" y="1628640"/>
            <a:ext cx="8604000" cy="48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уд з нагляду за виконанням покарань міста Р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300720" y="1628640"/>
            <a:ext cx="28432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уд з нагляду за виконанням покаран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іста Рим розглядає справи загальнонаціонального значен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DSC09219"/>
          <p:cNvPicPr/>
          <p:nvPr/>
        </p:nvPicPr>
        <p:blipFill>
          <a:blip r:embed="rId1"/>
          <a:stretch/>
        </p:blipFill>
        <p:spPr>
          <a:xfrm>
            <a:off x="250920" y="177336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Будьте нашими друзям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580000" y="1628280"/>
            <a:ext cx="3564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ribsorvroma.wordpres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book: Tribunale di Sorveglianza di R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tter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witter.com/tribsor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ckr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flickr.com/photos/46730249@N0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pan"/>
          <p:cNvPicPr/>
          <p:nvPr/>
        </p:nvPicPr>
        <p:blipFill>
          <a:blip r:embed="rId4"/>
          <a:stretch/>
        </p:blipFill>
        <p:spPr>
          <a:xfrm>
            <a:off x="179280" y="1773360"/>
            <a:ext cx="5400720" cy="44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уд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управлі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ща Рада Судді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олює Президент Республі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ирається усіма суддя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значає Голів судів та Прокурор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іє як дисциплінарний суд для судді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іністерство Юсти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значення суддів, адвокатів, нотаріусів,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парат суд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основних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епартамен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дова Адміністраці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дміністрація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”язниц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Ювенальна юстиці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конотворчий департа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.000 співробітник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ерівники апара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садовц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іністерства юстиці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повідальні за кадрове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рганізац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йне 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інанс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ве забезпеченн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звітн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Мін'юст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сада запроваджена 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00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Боротьба з організованою злочинніст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и основних злочинних організації (M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фі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кремий ви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лочи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"мафіозні об'єднання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: Національне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управлінн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боротьбі з мафіє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NA: Національний прокурор по боротьбі з мафією під наглядом Генерального прокурора Касаці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іціює 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коорди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озслідува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A: Районні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правлінн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боротьби з мафією (2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Окреме агенств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іції боротьбі з мафіє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Боротьба з організованою злочинніст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628640"/>
            <a:ext cx="84582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жим утримання у в»язниці : Мафія + тероризм + наркотик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рона на користування телефоно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рона на спілкування або листування з іншими ув'язнени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рона на зустрічі з третіми сторона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меження на побачення (членам родини дозволено один раз на місяць за умови спілкування чере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m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т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всте скло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рона на отримання або відправлення грошей (більше встановленої сум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рона на організацію культурних, рекреаційних та спортивних заході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рона на голосування або стоячи у виборах тюремних представникі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рона на участь у мистецькій і ремесленіцькій діяльност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Боротьба проти організованої злочинност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arresto_provenzano"/>
          <p:cNvPicPr/>
          <p:nvPr/>
        </p:nvPicPr>
        <p:blipFill>
          <a:blip r:embed="rId1"/>
          <a:stretch/>
        </p:blipFill>
        <p:spPr>
          <a:xfrm>
            <a:off x="250920" y="1989000"/>
            <a:ext cx="4389480" cy="38545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2920" y="177300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уд з нагляду за виконанням покаран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іста Рим діє на загальнонаціональному рівні як апеляційний су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41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s decr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фіскація всіх активів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 статків 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дальшим призначенням на соціальні ціл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ро Італію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б”єдна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аї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з 1861 ро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мократична Республіка з 1946 ро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раїна-член Европейського Сою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новник НА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 показниками виробництва ВВП посіда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місце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іт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тема охорони здоров'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за оцінками Всесвітньої Організації Здоров”я посіда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місц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сві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Колиска закону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ший в світі університет (Юридичний факультет Боло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ї 1088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ша країна,в якій було скасовано смертну кару (1786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лен E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роюс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точні пробле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412640"/>
            <a:ext cx="77724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ганізована злочинні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со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орумпованн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стійн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онфлікт між політикою та судово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ю системо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дмірна кількість відкладених спра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ивільного судочинства (5 мільйонів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дмірн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ивал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гляд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имінальн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их спра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є справи за порушення ЄКПЛ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Європейська Конвенція з Прав Люди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бтяжуюч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конодавств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0,00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процес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дифікаці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Найбільш важливий італійський внесок в  українську систему судоустрою Поки щ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авові машини Еспресс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!  </a:t>
            </a: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coffeemachine"/>
          <p:cNvPicPr/>
          <p:nvPr/>
        </p:nvPicPr>
        <p:blipFill>
          <a:blip r:embed="rId1"/>
          <a:stretch/>
        </p:blipFill>
        <p:spPr>
          <a:xfrm>
            <a:off x="1692360" y="1413000"/>
            <a:ext cx="5740200" cy="52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Запитанн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і Відповіді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puntoint"/>
          <p:cNvPicPr/>
          <p:nvPr/>
        </p:nvPicPr>
        <p:blipFill>
          <a:blip r:embed="rId1"/>
          <a:stretch/>
        </p:blipFill>
        <p:spPr>
          <a:xfrm>
            <a:off x="1187280" y="1700280"/>
            <a:ext cx="698508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Населення та імміграці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Stranieri_in_Italia_2008"/>
          <p:cNvPicPr/>
          <p:nvPr/>
        </p:nvPicPr>
        <p:blipFill>
          <a:blip r:embed="rId1"/>
          <a:stretch/>
        </p:blipFill>
        <p:spPr>
          <a:xfrm>
            <a:off x="324000" y="2924280"/>
            <a:ext cx="8604000" cy="3744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324000" y="1197000"/>
            <a:ext cx="8424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60.000.000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4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млн. іммігрант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&gt; 300.000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українці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( “Badanti” =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доглядальниці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Уряд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а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рховенство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ко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палат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ла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ря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езалежна судова вла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езиден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еспублі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емер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і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с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 Регіон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ституці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у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з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міністративні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іональний закон (не в цивільних і кримінальних справах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Юрисдик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3200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ституційний су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галь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цивіль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і криміналь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дміністративний суд бухгалтері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ійсков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іскаль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9" descr="giudici"/>
          <p:cNvPicPr/>
          <p:nvPr/>
        </p:nvPicPr>
        <p:blipFill>
          <a:blip r:embed="rId1"/>
          <a:stretch/>
        </p:blipFill>
        <p:spPr>
          <a:xfrm>
            <a:off x="179280" y="1700280"/>
            <a:ext cx="460872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гістр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000 (+ 3500 почесних суддів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лежність  та самовряду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курори+ Судд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ираються за конкурс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єрний зріст за старшинст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сока репутація і прести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7 магістратів вбито (1969 - 199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falcone_borsellino"/>
          <p:cNvPicPr/>
          <p:nvPr/>
        </p:nvPicPr>
        <p:blipFill>
          <a:blip r:embed="rId1"/>
          <a:stretch/>
        </p:blipFill>
        <p:spPr>
          <a:xfrm>
            <a:off x="4284720" y="1700280"/>
            <a:ext cx="4608360" cy="3124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9"/>
          <p:cNvSpPr/>
          <p:nvPr/>
        </p:nvSpPr>
        <p:spPr>
          <a:xfrm>
            <a:off x="4427640" y="5300640"/>
            <a:ext cx="42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Джованні Фальконе -  Паоло Борселі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удова систем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Цивільн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римінальн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асаційний с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пеляційний с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д першої інстанці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ировий судд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неральний прокурор при Касаційному суд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неральний прокурор при Апеляційному суд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ержавний обвинув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4859280" y="522936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курори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входять до склад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еціальн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г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ідділ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оліції (судової поліції), координують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слідування тощ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истема правосудд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о мати 3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дових засідання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 Касаці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ішенн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е є остаточ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не підлягає виконанн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до Касаці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кщо Касац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ю відхиле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значаютьс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ві слух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пеляц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це нові рішення, а не перегляд прецедентної постанови (Novum judicu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іякого суду присяжних, але більшість серйозних справ, розгл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аєть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виїздни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дом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до складу якого входять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фесійних суддів, Giudici Togati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а 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епрофесійн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Giudici Popol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Суд з нагляду за виконанням покара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50,000 осіб за гратами ( ½ з них громадяни інших держав… Українців не багато), дуже часто оголошується амніст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нституція забороняє негуманне поводження з люд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д з нагляду за виконанням покарань найголовніша ланка виправної систе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иймає рішення про випробний термін (умовне покаранн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конує рішення су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понує альтернативні засоби відбування покар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безпечує заходи безпе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povyi</cp:lastModifiedBy>
  <dcterms:modified xsi:type="dcterms:W3CDTF">2013-08-01T09:25:08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