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BC04-10F1-4BA3-BF11-09DE8191176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DC6F-F4EC-4E04-81E2-141E11F3EF4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C2C3-D960-4AA8-A8AB-2BF2197E1FF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8FD8-5EBB-46E3-87AF-DF7BDCA004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C3F4-B2E2-4230-9745-C610C563727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A9B5-6BF6-40C8-B0D3-B5D14E7ECFA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6514-2EC0-4BD9-AC57-C65195EA04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7DCA-AB5D-4F43-998F-B69108D7A1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E6A7-60BF-4D30-AC7F-8109FFC720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A76F-B21C-4397-889E-EB6C4FB8855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4E97-5789-4D1D-B4BE-32D887998F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99DC-E7C6-4517-A48A-467507FD93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367-07E6-462C-BE06-46BEB369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65D-FDA0-44C0-899E-C5CC2197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28E-137E-420F-A5BE-05CC0C8E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CCD-6EC6-4C69-B9DD-0D124BCB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309A-EB2D-41D2-8B0F-9C1E921C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01F7-751F-43D4-8C68-7CC61D19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E530-015D-4B4A-A947-138B6BCB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DEAB-B708-4CDF-8D7B-DA65D6FB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56FD-B215-43F3-8F57-CC663534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99CD-0014-4C5F-83DE-56CE19A2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6857-0B3D-4A5E-A0F9-4B11D9F0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349-7564-4978-9DF2-DA489646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8942-C687-498D-97EF-611688FC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9691-7779-4BE6-95E7-68FB3EE1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3B1-C49B-47CC-8D3B-81C8C7A8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B7D6-3FC4-456A-B3E5-B59D016C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660F-9075-4D02-945F-BE39FCDA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EEF-AAAB-4BCC-AFAE-0B4244D5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6AB-6DD9-4274-B332-7E560DD8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21F-6740-48B9-82DF-49562810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3A9-4F40-433D-A4F1-568B324A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409E-FC00-4C73-B917-441E6898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2DF-8885-4FC5-828B-6719E73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531-11ED-4773-84FC-02FE09B6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73F6-36DC-48FC-8C07-937168AC38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B28D-F5D8-47FE-B7CE-F395E900E6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Service Char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How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Guaranteed standard ≠ Target standard (your promises ≠ your objectives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wo sets of Standards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relationship with the cli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services provid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deliver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Standards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clearly what the client needs to do to achieve a resul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what are their rights and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uarantee staff manner and interpersonal skills: friendliness, helpfulness, respect, sensitivity to the clients’ individual needs, identifying themselves, explaining, listening carefully to the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mprove your standards of relationship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b) Quality of Services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asically, a service is an answer to a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Helpful (e.g. prompt referrals, availability of help in emergenc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ear (e.g. of letters, forms and publications, processes and other product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derstandable (by people with disabilit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ccurate (e.g. of advice, information, payments or filled orde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lete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propriate (e.g. fit to clients’ needs and circumstanc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d) Quality of delivery (Qo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inu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qual acces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ffordable cost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cial, cultural and environmental acceptabil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When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The timeliness of service delive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efine how much time a client will wait for a service to be deliver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Quantitative standar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ding to client contacts (e.g. letters, emails, phone message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ng (e.g. registration, application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ergency service (e.g. help where no appointment has been mad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lephone service (e.g. time to get through to a staff member, phone appointment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laint re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How to find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early state all channels of Communications between Court and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to give feedback on the charter itsel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) Clients right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review and appe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lodge a complai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privacy and confidentialit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have information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access services, facilities and information in a manner which meets their nee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treat Court staff with courtes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ttend scheduled meetings punctuall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respond to requests for information by the agency accurately, thoroughly and in a timely mann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bide by any legal requirements and other obligations that clients are to meet in order to be eligible for services sou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Be open to Feedbacks and Complaints…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 service charter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tain information on the feedback and complaints processes and make clear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agency welcomes feedback (complaints, compliments and suggestion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make a complaint, including relevant postal and email addresses, and phone and fax numbers. Include options (e.g. in person, comment card, on-line feedback form, by phone, letter, a TTY phone number for people who are deaf, hearing or speech impai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give feedback specifically about the Charter itself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feedback and complaints handling process is accessible, easy to use and fre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Court records data on complaints, compliments and suggestions and this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sed to help improve client servic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using the agency’s complaint handling system does not prevent the client from using appeal mechanisms at any time and should list contact details for these service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11280" y="57340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 sometimes you’ll get Compliments!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t 2: How to develop a Service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Diagram 6"/>
          <p:cNvGrpSpPr/>
          <p:nvPr/>
        </p:nvGrpSpPr>
        <p:grpSpPr>
          <a:xfrm>
            <a:off x="1747440" y="1302480"/>
            <a:ext cx="5643360" cy="5394960"/>
            <a:chOff x="1747440" y="1302480"/>
            <a:chExt cx="5643360" cy="5394960"/>
          </a:xfrm>
        </p:grpSpPr>
        <p:sp>
          <p:nvSpPr>
            <p:cNvPr id="203" name="_s1028"/>
            <p:cNvSpPr/>
            <p:nvPr/>
          </p:nvSpPr>
          <p:spPr>
            <a:xfrm>
              <a:off x="3082680" y="1302480"/>
              <a:ext cx="2975040" cy="299880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29"/>
            <p:cNvSpPr/>
            <p:nvPr/>
          </p:nvSpPr>
          <p:spPr>
            <a:xfrm rot="4320000">
              <a:off x="4013280" y="2005200"/>
              <a:ext cx="2998800" cy="297468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4680"/>
                <a:gd name="textAreaBottom" fmla="*/ 2975040 h 29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 rot="8640000">
              <a:off x="3665160" y="3110760"/>
              <a:ext cx="2974680" cy="2998440"/>
            </a:xfrm>
            <a:custGeom>
              <a:avLst/>
              <a:gdLst>
                <a:gd name="textAreaLeft" fmla="*/ 0 w 2974680"/>
                <a:gd name="textAreaRight" fmla="*/ 2975040 w 297468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31"/>
            <p:cNvSpPr/>
            <p:nvPr/>
          </p:nvSpPr>
          <p:spPr>
            <a:xfrm rot="12960000">
              <a:off x="2498040" y="3110400"/>
              <a:ext cx="2975040" cy="299844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32"/>
            <p:cNvSpPr/>
            <p:nvPr/>
          </p:nvSpPr>
          <p:spPr>
            <a:xfrm rot="17280000">
              <a:off x="2125800" y="2004840"/>
              <a:ext cx="2998800" cy="29750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33"/>
            <p:cNvSpPr/>
            <p:nvPr/>
          </p:nvSpPr>
          <p:spPr>
            <a:xfrm>
              <a:off x="5333760" y="1432080"/>
              <a:ext cx="109404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Draf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34"/>
            <p:cNvSpPr/>
            <p:nvPr/>
          </p:nvSpPr>
          <p:spPr>
            <a:xfrm>
              <a:off x="6145200" y="39427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Promo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35"/>
            <p:cNvSpPr/>
            <p:nvPr/>
          </p:nvSpPr>
          <p:spPr>
            <a:xfrm>
              <a:off x="2712960" y="14335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nsul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36"/>
            <p:cNvSpPr/>
            <p:nvPr/>
          </p:nvSpPr>
          <p:spPr>
            <a:xfrm>
              <a:off x="4025880" y="549576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llecting 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feedback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904760" y="3944160"/>
              <a:ext cx="10940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Review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Le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“Public Service”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vided by a public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the general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l citiz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qual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ame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Consult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preparing a service charter, Court Administrator should consult with clients, staff and other key stakeholders in relation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lecting service standards for inclusion in the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tting service guarante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termining the amount and level of detail in a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ciding how performance against the Charter standards and commitments will be measured and monit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11280" y="59500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 + Stakeholders = Talk to and Meet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Charter format and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= make it readable and understandable by every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in language style of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void legal jarg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concise, straightforward and user-friendly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cessible format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nguages other than Ukraini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ible websi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dio t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rge pr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design that meets the needs of a wide client base (i.e., good contrast between text and background; use of colour; size of text; and no background images under tex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.3 Launch and 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high-profile launch by the Minister or appropriate dignita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media campaign and an ongoing communications strateg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munication and distribution of the Service Charter to all staff, clients and stakehold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stributing the charter to all client contact poi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lacing it on the Court’s Web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Maintenance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Service Charter is a living document of a living organ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lessons is a way to improve your service, and the Charter it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sk yourself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learned since the first SC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improved in the wh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es it still reflects realit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Court’s approach to clien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needs and priorities of the clients and key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current content accura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format, design and availability what client nee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was the feedback collected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 we have to make changes to the complaint handling process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onito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’s feedback and 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edback on the 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26920" y="465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nd report 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 Service Charter is a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your Court’s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the needs of your clients and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public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ting the basic rights of the citi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d principles governing the provision of services to u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a public off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statement, not a legal docume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learly identifies the Court, the Court’s purpose, its client base and its servic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establishes channels of communication between the Court and its cli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 out the agency’s client service standards and client rights and responsibiliti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s ways to obtain feedback and handling client enquiries and complai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developed in consultation with clients, staff and other key stakehold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periodically monitored and review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asu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and impro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at  i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rmations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 Standar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hannels of Communic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s’ rights and responsibilit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’s feedback and complai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Who w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title that clearly identifies the document as a Client Service Char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Name of people working in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Vi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clients (actual or potenti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stakehold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ents Vs. 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ients: those to whom Court directly provides services (internal + exter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w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u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so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keholders: those who have an interest in the successful operation of the Cou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munit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ther government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siness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ople with additional or diver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55640" y="5229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ercise: try map the Clients and Stakeholders of your Cou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What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Mis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tement of purpose of the Char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ist of 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date of Charter publicatio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ate of the next review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A Mission Statement is …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2:46Z</dcterms:modified>
  <cp:revision>9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