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2AC0-DF51-422F-ACCF-48DEFDF70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69B5-1CB7-4D63-B37A-74FE6F5CD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F25-DD0C-4533-B5BE-3F3415EE4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A8CF3-90C4-4D97-A4F7-F51202C53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1A84A77-48AD-41D5-B3B7-3B94639CDD9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985B-C61D-4EA9-A26F-40847E175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0BC7193-90C6-490B-B0CD-3E7E6DCF564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2EE3-6E49-44AD-ADA6-4F8F33753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8D2D-269C-4FFB-914E-EDC61922FF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41B1-26DB-4155-8653-F034099B3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s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4CD3-3519-4349-B08F-9F961A4F95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6EB6-EBB8-4BE0-A0D7-50AA2CE24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3ED4-74CD-41DF-8EAE-6C6BD95C70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E33F-4B5E-4D27-8362-26E0AB079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0181-CC24-41DF-8BB0-34EEE35009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5D14-9202-438B-BCA8-440925A9F55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tatistics by types in the administrative courts are on a very detailed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analysis, follow-ups and the allocation of resources the following group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89B-DF24-4972-82B6-51CAE8E9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B41-7F53-41E3-9BC5-8E8F7855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32F-8ECC-467B-9351-910F7173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645-3F42-4003-A08C-8F7AB51B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8A2-693E-4FC1-BC4F-0DD1633A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0D96-0C52-4842-AEF0-8E03CBF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4B9-17E0-4AC1-BCFE-36F72999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02B-2AE2-4C8A-B056-8666E0E1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0219-C31C-419A-A1A0-CB8C8C0E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698D-E4FD-4D33-A499-35F27EBC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A8A-67FA-42DF-B560-A3A56FEA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47AF-7801-44F0-BC61-5A54B22D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CD65-DF97-4881-863F-75DA79499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удова влада у Швец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184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ьоран Бод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ov_center"/>
          <p:cNvPicPr/>
          <p:nvPr/>
        </p:nvPicPr>
        <p:blipFill>
          <a:blip r:embed="rId1"/>
          <a:stretch/>
        </p:blipFill>
        <p:spPr>
          <a:xfrm>
            <a:off x="3352680" y="4038480"/>
            <a:ext cx="23050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0" y="59436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устр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вецькі с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7360"/>
            <a:ext cx="71629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і адміністративні с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816440" y="12600"/>
            <a:ext cx="33796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6"/>
          <p:cNvGraphicFramePr/>
          <p:nvPr/>
        </p:nvGraphicFramePr>
        <p:xfrm>
          <a:off x="838080" y="990720"/>
          <a:ext cx="39060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390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934320" cy="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ий адміністрати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844880" y="19080"/>
            <a:ext cx="3354480" cy="663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6"/>
          <p:cNvGraphicFramePr/>
          <p:nvPr/>
        </p:nvGraphicFramePr>
        <p:xfrm>
          <a:off x="914400" y="990720"/>
          <a:ext cx="44604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90720"/>
                    <a:ext cx="446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вдання від уряд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римінальних справ в районних судах та апеляційних судах повинні бути закриті в межах 5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ивільни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районих судах та апеляційних судах повинні бути закриті в межах 7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адміністративних суда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винні бути закриті в межах 6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84280"/>
          <a:ext cx="8569080" cy="417348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йон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1557360"/>
          <a:ext cx="8569080" cy="400824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1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95280" y="1370160"/>
            <a:ext cx="8748720" cy="5103720"/>
            <a:chOff x="395280" y="1370160"/>
            <a:chExt cx="8748720" cy="5103720"/>
          </a:xfrm>
        </p:grpSpPr>
        <p:grpSp>
          <p:nvGrpSpPr>
            <p:cNvPr id="126" name="Group 3"/>
            <p:cNvGrpSpPr/>
            <p:nvPr/>
          </p:nvGrpSpPr>
          <p:grpSpPr>
            <a:xfrm>
              <a:off x="395280" y="1370160"/>
              <a:ext cx="8748720" cy="5103720"/>
              <a:chOff x="395280" y="1370160"/>
              <a:chExt cx="8748720" cy="5103720"/>
            </a:xfrm>
          </p:grpSpPr>
          <p:pic>
            <p:nvPicPr>
              <p:cNvPr id="1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800" y="1521000"/>
                <a:ext cx="8674200" cy="49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5"/>
              <p:cNvSpPr/>
              <p:nvPr/>
            </p:nvSpPr>
            <p:spPr>
              <a:xfrm>
                <a:off x="395280" y="1370160"/>
                <a:ext cx="2612880" cy="67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AutoShape 6"/>
            <p:cNvSpPr/>
            <p:nvPr/>
          </p:nvSpPr>
          <p:spPr>
            <a:xfrm rot="1706400">
              <a:off x="5333760" y="3044520"/>
              <a:ext cx="952560" cy="431640"/>
            </a:xfrm>
            <a:prstGeom prst="parallelogram">
              <a:avLst>
                <a:gd name="adj" fmla="val 7027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 rot="1706400">
              <a:off x="3924000" y="2420640"/>
              <a:ext cx="1245960" cy="431640"/>
            </a:xfrm>
            <a:prstGeom prst="parallelogram">
              <a:avLst>
                <a:gd name="adj" fmla="val 6798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 rot="945600">
            <a:off x="4896000" y="569124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10800000">
            <a:off x="395280" y="1676520"/>
            <a:ext cx="2016000" cy="1218960"/>
          </a:xfrm>
          <a:prstGeom prst="wedgeRectCallout">
            <a:avLst>
              <a:gd name="adj1" fmla="val -101421"/>
              <a:gd name="adj2" fmla="val -7930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емі кімнати для прокурорів, адвокатів, свідків, позивачів, і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 rot="10800000">
            <a:off x="3123720" y="1142280"/>
            <a:ext cx="2590920" cy="988920"/>
          </a:xfrm>
          <a:prstGeom prst="wedgeRectCallout">
            <a:avLst>
              <a:gd name="adj1" fmla="val -6560"/>
              <a:gd name="adj2" fmla="val -10281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імнати для обговорення, переговорів і пі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867280" y="5013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Судова з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8000" y="4005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Приймаль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3995640" y="5516640"/>
            <a:ext cx="2016360" cy="10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6443640" y="1700280"/>
            <a:ext cx="2087640" cy="1439640"/>
            <a:chOff x="6443640" y="1700280"/>
            <a:chExt cx="2087640" cy="1439640"/>
          </a:xfrm>
        </p:grpSpPr>
        <p:sp>
          <p:nvSpPr>
            <p:cNvPr id="139" name="AutoShape 16"/>
            <p:cNvSpPr/>
            <p:nvPr/>
          </p:nvSpPr>
          <p:spPr>
            <a:xfrm rot="10800000">
              <a:off x="6603480" y="1969560"/>
              <a:ext cx="1847880" cy="1169640"/>
            </a:xfrm>
            <a:prstGeom prst="wedgeRectCallout">
              <a:avLst>
                <a:gd name="adj1" fmla="val 38657"/>
                <a:gd name="adj2" fmla="val -261592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 rot="10800000">
              <a:off x="6603480" y="1969920"/>
              <a:ext cx="1847880" cy="1078560"/>
            </a:xfrm>
            <a:prstGeom prst="wedgeRectCallout">
              <a:avLst>
                <a:gd name="adj1" fmla="val 54462"/>
                <a:gd name="adj2" fmla="val -155217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6443640" y="1700280"/>
              <a:ext cx="2087640" cy="1439640"/>
              <a:chOff x="6443640" y="1700280"/>
              <a:chExt cx="2087640" cy="1439640"/>
            </a:xfrm>
          </p:grpSpPr>
          <p:sp>
            <p:nvSpPr>
              <p:cNvPr id="142" name="AutoShape 19"/>
              <p:cNvSpPr/>
              <p:nvPr/>
            </p:nvSpPr>
            <p:spPr>
              <a:xfrm rot="10800000">
                <a:off x="6505200" y="1874520"/>
                <a:ext cx="1855800" cy="1227240"/>
              </a:xfrm>
              <a:prstGeom prst="wedgeRectCallout">
                <a:avLst>
                  <a:gd name="adj1" fmla="val -31268"/>
                  <a:gd name="adj2" fmla="val -202060"/>
                </a:avLst>
              </a:prstGeom>
              <a:solidFill>
                <a:srgbClr val="dddddd">
                  <a:alpha val="25000"/>
                </a:srgbClr>
              </a:solidFill>
              <a:ln w="9360">
                <a:solidFill>
                  <a:srgbClr val="990033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6443640" y="1700280"/>
                <a:ext cx="2087640" cy="14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21"/>
            <p:cNvSpPr/>
            <p:nvPr/>
          </p:nvSpPr>
          <p:spPr>
            <a:xfrm rot="10800000">
              <a:off x="6523200" y="1879200"/>
              <a:ext cx="2008080" cy="1260720"/>
            </a:xfrm>
            <a:prstGeom prst="wedgeRectCallout">
              <a:avLst>
                <a:gd name="adj1" fmla="val 114106"/>
                <a:gd name="adj2" fmla="val -185814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є бути 4 входи до залу суду для учасників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22"/>
          <p:cNvSpPr/>
          <p:nvPr/>
        </p:nvSpPr>
        <p:spPr>
          <a:xfrm rot="10800000">
            <a:off x="1042920" y="5444640"/>
            <a:ext cx="1944720" cy="576360"/>
          </a:xfrm>
          <a:prstGeom prst="wedgeRectCallout">
            <a:avLst>
              <a:gd name="adj1" fmla="val -46981"/>
              <a:gd name="adj2" fmla="val 319421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Головна приймаль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бінет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нні бути окремими від за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сідан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які відвідувачі не мають доступу до цих приміщ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иміщень  має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ути гнучки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мето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ня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них умов для праці та  пербудов (в разаінеохідності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інети  мають бути пристосовані  до роботи  структурних підрозділів – не до людини або пос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для працівників апарату мают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ия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обмі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інформа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іж колегам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ають бути  приміщення  для  проведення нарад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зустрічей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ерігання документації, відпочин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і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11280" y="1413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обочі кабін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Роль Національ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о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Адміністр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веці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S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 – орган державної влади підпорядкований Уряду Шве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не може втручатись в процес здійснення судочинств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суди і судді незалежні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олов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завд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м є здійсн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оординац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 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іш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бл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удов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Швеці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 включає розвиток персонал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вчання судд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арат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формац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йне забезпечення діяльност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н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іщення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розподіл ресурс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татист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тання бюджету та фінансовий анал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988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Організацій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38120" y="1484280"/>
            <a:ext cx="8454960" cy="4969080"/>
            <a:chOff x="438120" y="1484280"/>
            <a:chExt cx="8454960" cy="4969080"/>
          </a:xfrm>
        </p:grpSpPr>
        <p:sp>
          <p:nvSpPr>
            <p:cNvPr id="155" name="AutoShape 5"/>
            <p:cNvSpPr/>
            <p:nvPr/>
          </p:nvSpPr>
          <p:spPr>
            <a:xfrm>
              <a:off x="641484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ppoint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Proposals 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14840" y="2492640"/>
              <a:ext cx="1844640" cy="576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Law Clerk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H="1">
              <a:off x="4686120" y="1987560"/>
              <a:ext cx="6480" cy="35179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3725640" y="2421000"/>
              <a:ext cx="1871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олова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461880" y="5721480"/>
              <a:ext cx="1844640" cy="7081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 розвитку персонал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(навчанн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639880" y="5721480"/>
              <a:ext cx="1805040" cy="71280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Управління кад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4868640" y="5721480"/>
              <a:ext cx="1866960" cy="73188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Фінансов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7072200" y="5720040"/>
              <a:ext cx="1811160" cy="72216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інформаційн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технологі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1373040" y="551016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137304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353376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583848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799920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1373040" y="436428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37304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0"/>
            <p:cNvSpPr/>
            <p:nvPr/>
          </p:nvSpPr>
          <p:spPr>
            <a:xfrm>
              <a:off x="353376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583848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2"/>
            <p:cNvSpPr/>
            <p:nvPr/>
          </p:nvSpPr>
          <p:spPr>
            <a:xfrm>
              <a:off x="799920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3"/>
            <p:cNvSpPr/>
            <p:nvPr/>
          </p:nvSpPr>
          <p:spPr>
            <a:xfrm>
              <a:off x="4894200" y="4567320"/>
              <a:ext cx="1849320" cy="7333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Адміністратив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4"/>
            <p:cNvSpPr/>
            <p:nvPr/>
          </p:nvSpPr>
          <p:spPr>
            <a:xfrm>
              <a:off x="2619360" y="4559400"/>
              <a:ext cx="182052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в'язків з ЗМІ 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ромадскісьт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438120" y="4546800"/>
              <a:ext cx="184464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Юридич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6"/>
            <p:cNvSpPr/>
            <p:nvPr/>
          </p:nvSpPr>
          <p:spPr>
            <a:xfrm>
              <a:off x="7048440" y="4572000"/>
              <a:ext cx="1844640" cy="7225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безп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7"/>
            <p:cNvSpPr/>
            <p:nvPr/>
          </p:nvSpPr>
          <p:spPr>
            <a:xfrm>
              <a:off x="373356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Правлі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8"/>
            <p:cNvSpPr/>
            <p:nvPr/>
          </p:nvSpPr>
          <p:spPr>
            <a:xfrm>
              <a:off x="4470120" y="3861000"/>
              <a:ext cx="432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9"/>
            <p:cNvSpPr/>
            <p:nvPr/>
          </p:nvSpPr>
          <p:spPr>
            <a:xfrm>
              <a:off x="2635200" y="354024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исциплінарна р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0"/>
            <p:cNvSpPr/>
            <p:nvPr/>
          </p:nvSpPr>
          <p:spPr>
            <a:xfrm>
              <a:off x="4876560" y="352440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інн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утрішнь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го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уди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Адміністративна систем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Шв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ії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5" descr=""/>
          <p:cNvPicPr/>
          <p:nvPr/>
        </p:nvPicPr>
        <p:blipFill>
          <a:blip r:embed="rId1"/>
          <a:stretch/>
        </p:blipFill>
        <p:spPr>
          <a:xfrm>
            <a:off x="414360" y="1603440"/>
            <a:ext cx="849780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765000"/>
            <a:ext cx="889308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1828800"/>
            <a:ext cx="18288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 загально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юрисдикці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5880" y="1752480"/>
            <a:ext cx="274320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Загаль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адміністраив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19320" y="266688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ерховний 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95880" y="266688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и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19320" y="342900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219320" y="4191120"/>
            <a:ext cx="18288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Районні суди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4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095880" y="342900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095880" y="4191120"/>
            <a:ext cx="27432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724280" y="5791320"/>
            <a:ext cx="289584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генства на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Юридич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допомо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28800" y="5715000"/>
            <a:ext cx="25146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рибуна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пи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вирішення спорів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рендних відносинах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66680" y="5029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3750,   з них 115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095880" y="5029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2050,      з них 60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200400" y="533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Система судової вл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3657600" y="2438280"/>
            <a:ext cx="1828800" cy="2359080"/>
            <a:chOff x="3657600" y="2438280"/>
            <a:chExt cx="1828800" cy="2359080"/>
          </a:xfrm>
        </p:grpSpPr>
        <p:sp>
          <p:nvSpPr>
            <p:cNvPr id="70" name="Rectangle 18"/>
            <p:cNvSpPr/>
            <p:nvPr/>
          </p:nvSpPr>
          <p:spPr>
            <a:xfrm>
              <a:off x="3657600" y="2438280"/>
              <a:ext cx="1828800" cy="235908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Національ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Судо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Адміністраці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Швеці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9" descr="dv-vapen"/>
            <p:cNvPicPr/>
            <p:nvPr/>
          </p:nvPicPr>
          <p:blipFill>
            <a:blip r:embed="rId1"/>
            <a:stretch/>
          </p:blipFill>
          <p:spPr>
            <a:xfrm>
              <a:off x="4254480" y="3471840"/>
              <a:ext cx="67140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11280" y="1844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517320"/>
            <a:ext cx="4960800" cy="15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и загальної юрисдикції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йон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829040" y="9360"/>
            <a:ext cx="33400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1523880" y="1752480"/>
          <a:ext cx="287280" cy="27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2872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айонні с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міна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бивство, насильство, сексуаль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могання та схож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грабування, крадіжки 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хожі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і злочини 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ахра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ібні правопорушення 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розглядаються  визначеною особою – помічник судді, стажер на посаду судд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імей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значна ціна позов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по навколишньому середов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57200" y="2895480"/>
            <a:ext cx="417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25600" y="404640"/>
            <a:ext cx="5798880" cy="18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3962520" y="0"/>
            <a:ext cx="330336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9"/>
          <p:cNvGraphicFramePr/>
          <p:nvPr/>
        </p:nvGraphicFramePr>
        <p:xfrm>
          <a:off x="1676520" y="1752480"/>
          <a:ext cx="3585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752480"/>
                    <a:ext cx="358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11280" y="1844640"/>
            <a:ext cx="424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23800" y="404640"/>
            <a:ext cx="534348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рхо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4846680" y="31680"/>
            <a:ext cx="3338640" cy="655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9"/>
          <p:cNvGraphicFramePr/>
          <p:nvPr/>
        </p:nvGraphicFramePr>
        <p:xfrm>
          <a:off x="1523880" y="1676520"/>
          <a:ext cx="298440" cy="27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1676520"/>
                    <a:ext cx="2984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3324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дміністративні 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89000"/>
            <a:ext cx="4465440" cy="281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між  фізичною особ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ами державної вла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,передбачені  Актом на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іальних послу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890960" y="174600"/>
            <a:ext cx="325296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48120" y="49320"/>
            <a:ext cx="3322800" cy="65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7"/>
          <p:cNvGraphicFramePr/>
          <p:nvPr/>
        </p:nvGraphicFramePr>
        <p:xfrm>
          <a:off x="533520" y="1219320"/>
          <a:ext cx="4284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428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дміністративні с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оловні катег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соціального страх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бачені Актом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іаль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щодо визначення психічного стану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по соціальному забезпечен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аційн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ш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15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