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B998-A1AD-4145-BCFA-EC75AE935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B361-D470-4E8E-A278-06B02A6E7D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B3F9-7C6C-48F7-A77F-D15942A560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CDF2-CFAA-4C6C-A57A-F6B315871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5425A6E-B852-4354-8EBC-9B9317E9099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8FBD-8817-4E8D-BA9B-C07AFDCABC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B60028F-0143-48EB-81F9-03F91FAA0AF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uring 2008 the District courts and the Courts of appeal did not achieve the Governments objective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ompared to 2007 both the District courts and the Courts of Appeal improved the time for resolving civil cases and criminal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C258-DF04-40C1-B038-EBE005F40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68B5-5BC1-487A-897C-03D775C7E7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B35D-0A17-4024-95C5-85EB6CE19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s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6FF4-873D-4072-A185-A859505288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5BD7-EDD9-457C-99C0-F6E6CA3DAE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1524-E45A-4D0B-85A0-1A27264CF9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5917-BA3A-4BC8-B224-A185A0D276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stolarna i land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a denna vara m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96D9-5D32-4FDE-9E4C-E054F067AC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6647-A9B4-4A9F-9F88-26D8A5D60256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he statistics by types in the administrative courts are on a very detailed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In the analysis, follow-ups and the allocation of resources the following groups ar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DF6-E1AD-445E-AF9F-D18C67B2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D87-380B-4D1F-8B2F-8481270F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32F6-FEC3-40A3-85AF-306F2ABC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B445-BF4B-42E9-8C12-ACB1446C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C31-A53F-4A04-B08E-BFA6FC22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B37-DB22-4716-851F-C347B96F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E9E7-A77E-4804-8F0E-4CBEBBCA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E40-B6CA-42D4-8975-C6432836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3A7-1D10-4ACF-AD0B-D1B37763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4B0-51FC-46C4-A2E7-8D3EA120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6218-C793-42E2-87D9-ECE4BA44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FE6-90C2-46A6-AFC4-F5315584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DE5C-347F-4647-939E-1052C4255D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Судова влада у Швеці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9280" y="2421000"/>
            <a:ext cx="6184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Гьоран Боді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dov_center"/>
          <p:cNvPicPr/>
          <p:nvPr/>
        </p:nvPicPr>
        <p:blipFill>
          <a:blip r:embed="rId1"/>
          <a:stretch/>
        </p:blipFill>
        <p:spPr>
          <a:xfrm>
            <a:off x="3352680" y="4038480"/>
            <a:ext cx="2305080" cy="1752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2286000" y="59436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удоустр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Швецькі су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477360"/>
            <a:ext cx="716292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еляційні адміністративні с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611280" y="1916280"/>
            <a:ext cx="42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4816440" y="12600"/>
            <a:ext cx="337968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6"/>
          <p:cNvGraphicFramePr/>
          <p:nvPr/>
        </p:nvGraphicFramePr>
        <p:xfrm>
          <a:off x="838080" y="990720"/>
          <a:ext cx="390600" cy="37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990720"/>
                    <a:ext cx="390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6934320" cy="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щий адміністратив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611280" y="1916280"/>
            <a:ext cx="42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4844880" y="19080"/>
            <a:ext cx="3354480" cy="663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Object 6"/>
          <p:cNvGraphicFramePr/>
          <p:nvPr/>
        </p:nvGraphicFramePr>
        <p:xfrm>
          <a:off x="914400" y="990720"/>
          <a:ext cx="446040" cy="39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990720"/>
                    <a:ext cx="4460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Завдання від уряду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римінальних справ в районних судах та апеляційних судах повинні бути закриті в межах 5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цивільни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ав в районих судах та апеляційних судах повинні бути закриті в межах 7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5 %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справ в адміністративних судах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винні бути закриті в межах 6 місяц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50920" y="1484280"/>
          <a:ext cx="8569080" cy="4173480"/>
        </p:xfrm>
        <a:graphic>
          <a:graphicData uri="http://schemas.openxmlformats.org/drawingml/2006/table">
            <a:tbl>
              <a:tblPr/>
              <a:tblGrid>
                <a:gridCol w="4321080"/>
                <a:gridCol w="1440000"/>
                <a:gridCol w="936360"/>
                <a:gridCol w="936720"/>
                <a:gridCol w="9349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зновид суду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ія 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 в місяцях для закриття 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%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ядові завд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03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йон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иві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иміна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2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еляцій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иві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имінальні спра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</a:t>
                      </a:r>
                      <a:br>
                        <a:rPr sz="2000"/>
                      </a:b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58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ота 2008 (згідно Урядовим завдання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50920" y="1557360"/>
          <a:ext cx="8569080" cy="4008240"/>
        </p:xfrm>
        <a:graphic>
          <a:graphicData uri="http://schemas.openxmlformats.org/drawingml/2006/table">
            <a:tbl>
              <a:tblPr/>
              <a:tblGrid>
                <a:gridCol w="4321080"/>
                <a:gridCol w="1440000"/>
                <a:gridCol w="936360"/>
                <a:gridCol w="936720"/>
                <a:gridCol w="9349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ізновид суду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тегорія 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с в місяцях для закриття </a:t>
                      </a:r>
                      <a:r>
                        <a:rPr b="0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 % 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ae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рядові завдан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зульта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міністратив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01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еляційні адміністративні суд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058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бота 2008 (згідно Урядовим завдання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395280" y="1370160"/>
            <a:ext cx="8748720" cy="5103720"/>
            <a:chOff x="395280" y="1370160"/>
            <a:chExt cx="8748720" cy="5103720"/>
          </a:xfrm>
        </p:grpSpPr>
        <p:grpSp>
          <p:nvGrpSpPr>
            <p:cNvPr id="126" name="Group 3"/>
            <p:cNvGrpSpPr/>
            <p:nvPr/>
          </p:nvGrpSpPr>
          <p:grpSpPr>
            <a:xfrm>
              <a:off x="395280" y="1370160"/>
              <a:ext cx="8748720" cy="5103720"/>
              <a:chOff x="395280" y="1370160"/>
              <a:chExt cx="8748720" cy="5103720"/>
            </a:xfrm>
          </p:grpSpPr>
          <p:pic>
            <p:nvPicPr>
              <p:cNvPr id="127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469800" y="1521000"/>
                <a:ext cx="8674200" cy="495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Rectangle 5"/>
              <p:cNvSpPr/>
              <p:nvPr/>
            </p:nvSpPr>
            <p:spPr>
              <a:xfrm>
                <a:off x="395280" y="1370160"/>
                <a:ext cx="2612880" cy="67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AutoShape 6"/>
            <p:cNvSpPr/>
            <p:nvPr/>
          </p:nvSpPr>
          <p:spPr>
            <a:xfrm rot="1706400">
              <a:off x="5333760" y="3044520"/>
              <a:ext cx="952560" cy="431640"/>
            </a:xfrm>
            <a:prstGeom prst="parallelogram">
              <a:avLst>
                <a:gd name="adj" fmla="val 70271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7"/>
            <p:cNvSpPr/>
            <p:nvPr/>
          </p:nvSpPr>
          <p:spPr>
            <a:xfrm rot="1706400">
              <a:off x="3924000" y="2420640"/>
              <a:ext cx="1245960" cy="431640"/>
            </a:xfrm>
            <a:prstGeom prst="parallelogram">
              <a:avLst>
                <a:gd name="adj" fmla="val 67981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оги до приміщення с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 rot="945600">
            <a:off x="4896000" y="5691240"/>
            <a:ext cx="934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 rot="10800000">
            <a:off x="395280" y="1676520"/>
            <a:ext cx="2016000" cy="1218960"/>
          </a:xfrm>
          <a:prstGeom prst="wedgeRectCallout">
            <a:avLst>
              <a:gd name="adj1" fmla="val -101421"/>
              <a:gd name="adj2" fmla="val -79300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1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емі кімнати для прокурорів, адвокатів, свідків, позивачів, і т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 rot="10800000">
            <a:off x="3123720" y="1142280"/>
            <a:ext cx="2590920" cy="988920"/>
          </a:xfrm>
          <a:prstGeom prst="wedgeRectCallout">
            <a:avLst>
              <a:gd name="adj1" fmla="val -6560"/>
              <a:gd name="adj2" fmla="val -102810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1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імнати для обговорення, переговорів і підготов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867280" y="501336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rebuchet MS"/>
              </a:rPr>
              <a:t>Судова за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48000" y="4005360"/>
            <a:ext cx="1152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rebuchet MS"/>
              </a:rPr>
              <a:t>Приймальн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4"/>
          <p:cNvSpPr/>
          <p:nvPr/>
        </p:nvSpPr>
        <p:spPr>
          <a:xfrm>
            <a:off x="3995640" y="5516640"/>
            <a:ext cx="2016360" cy="1008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15"/>
          <p:cNvGrpSpPr/>
          <p:nvPr/>
        </p:nvGrpSpPr>
        <p:grpSpPr>
          <a:xfrm>
            <a:off x="6443640" y="1700280"/>
            <a:ext cx="2087640" cy="1439640"/>
            <a:chOff x="6443640" y="1700280"/>
            <a:chExt cx="2087640" cy="1439640"/>
          </a:xfrm>
        </p:grpSpPr>
        <p:sp>
          <p:nvSpPr>
            <p:cNvPr id="139" name="AutoShape 16"/>
            <p:cNvSpPr/>
            <p:nvPr/>
          </p:nvSpPr>
          <p:spPr>
            <a:xfrm rot="10800000">
              <a:off x="6603480" y="1969560"/>
              <a:ext cx="1847880" cy="1169640"/>
            </a:xfrm>
            <a:prstGeom prst="wedgeRectCallout">
              <a:avLst>
                <a:gd name="adj1" fmla="val 38657"/>
                <a:gd name="adj2" fmla="val -261592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7"/>
            <p:cNvSpPr/>
            <p:nvPr/>
          </p:nvSpPr>
          <p:spPr>
            <a:xfrm rot="10800000">
              <a:off x="6603480" y="1969920"/>
              <a:ext cx="1847880" cy="1078560"/>
            </a:xfrm>
            <a:prstGeom prst="wedgeRectCallout">
              <a:avLst>
                <a:gd name="adj1" fmla="val 54462"/>
                <a:gd name="adj2" fmla="val -155217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18"/>
            <p:cNvGrpSpPr/>
            <p:nvPr/>
          </p:nvGrpSpPr>
          <p:grpSpPr>
            <a:xfrm>
              <a:off x="6443640" y="1700280"/>
              <a:ext cx="2087640" cy="1439640"/>
              <a:chOff x="6443640" y="1700280"/>
              <a:chExt cx="2087640" cy="1439640"/>
            </a:xfrm>
          </p:grpSpPr>
          <p:sp>
            <p:nvSpPr>
              <p:cNvPr id="142" name="AutoShape 19"/>
              <p:cNvSpPr/>
              <p:nvPr/>
            </p:nvSpPr>
            <p:spPr>
              <a:xfrm rot="10800000">
                <a:off x="6505200" y="1874520"/>
                <a:ext cx="1855800" cy="1227240"/>
              </a:xfrm>
              <a:prstGeom prst="wedgeRectCallout">
                <a:avLst>
                  <a:gd name="adj1" fmla="val -31268"/>
                  <a:gd name="adj2" fmla="val -202060"/>
                </a:avLst>
              </a:prstGeom>
              <a:solidFill>
                <a:srgbClr val="dddddd">
                  <a:alpha val="25000"/>
                </a:srgbClr>
              </a:solidFill>
              <a:ln w="9360">
                <a:solidFill>
                  <a:srgbClr val="990033">
                    <a:alpha val="4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20"/>
              <p:cNvSpPr/>
              <p:nvPr/>
            </p:nvSpPr>
            <p:spPr>
              <a:xfrm>
                <a:off x="6443640" y="1700280"/>
                <a:ext cx="2087640" cy="143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AutoShape 21"/>
            <p:cNvSpPr/>
            <p:nvPr/>
          </p:nvSpPr>
          <p:spPr>
            <a:xfrm rot="10800000">
              <a:off x="6523200" y="1879200"/>
              <a:ext cx="2008080" cy="1260720"/>
            </a:xfrm>
            <a:prstGeom prst="wedgeRectCallout">
              <a:avLst>
                <a:gd name="adj1" fmla="val 114106"/>
                <a:gd name="adj2" fmla="val -185814"/>
              </a:avLst>
            </a:prstGeom>
            <a:solidFill>
              <a:srgbClr val="dddddd">
                <a:alpha val="25000"/>
              </a:srgbClr>
            </a:solidFill>
            <a:ln w="9360">
              <a:solidFill>
                <a:srgbClr val="990033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2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ає бути 4 входи до залу суду для учасників процес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AutoShape 22"/>
          <p:cNvSpPr/>
          <p:nvPr/>
        </p:nvSpPr>
        <p:spPr>
          <a:xfrm rot="10800000">
            <a:off x="1042920" y="5444640"/>
            <a:ext cx="1944720" cy="576360"/>
          </a:xfrm>
          <a:prstGeom prst="wedgeRectCallout">
            <a:avLst>
              <a:gd name="adj1" fmla="val -46981"/>
              <a:gd name="adj2" fmla="val 319421"/>
            </a:avLst>
          </a:prstGeom>
          <a:solidFill>
            <a:srgbClr val="eaeaea">
              <a:alpha val="55000"/>
            </a:srgbClr>
          </a:solidFill>
          <a:ln w="9360">
            <a:solidFill>
              <a:srgbClr val="9900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5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Головна приймаль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моги до приміщення с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904760"/>
            <a:ext cx="820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абінет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винні бути окремими від залів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засідань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іякі відвідувачі не мають доступу до цих приміщ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изайн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приміщень  має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ути гнучким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 метою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забезпеч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ння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лежних умов для праці та  пербудов (в разаінеохідності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бінети  мають бути пристосовані  до роботи  структурних підрозділів – не до людини або поса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міщення для працівників апарату мають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сприят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обмі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інформаці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ю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іж колегами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мають бути  приміщення  для  проведення нарад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зустрічей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берігання документації, відпочинк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і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5408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611280" y="1413000"/>
            <a:ext cx="82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Робочі кабін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36280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Роль Національної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ової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Адміністра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Швеції </a:t>
            </a: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(SN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Швеції – орган державної влади підпорядкований Уряду Швец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не може втручатись в процес здійснення судочинств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суди і судді незалежні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олов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завдан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м є здійсненн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оординаці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ї т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рішення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обл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судової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лад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Швеці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Це включає розвиток персонал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вчання суддів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арату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у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формац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йне забезпечення діяльності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забезпеч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енн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иміщенням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розподіл ресурсі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ір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удо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статистик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итання бюджету та фінансовий аналі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6988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ціональна Судова Адміністрація Швеції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Організаційна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154080" y="460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438120" y="1484280"/>
            <a:ext cx="8454960" cy="4969080"/>
            <a:chOff x="438120" y="1484280"/>
            <a:chExt cx="8454960" cy="4969080"/>
          </a:xfrm>
        </p:grpSpPr>
        <p:sp>
          <p:nvSpPr>
            <p:cNvPr id="155" name="AutoShape 5"/>
            <p:cNvSpPr/>
            <p:nvPr/>
          </p:nvSpPr>
          <p:spPr>
            <a:xfrm>
              <a:off x="6414840" y="148428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Appoint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Proposals  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6414840" y="2492640"/>
              <a:ext cx="1844640" cy="57600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rebuchet MS"/>
                </a:rPr>
                <a:t>Law Clerk 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7"/>
            <p:cNvSpPr/>
            <p:nvPr/>
          </p:nvSpPr>
          <p:spPr>
            <a:xfrm flipH="1">
              <a:off x="4686120" y="1987560"/>
              <a:ext cx="6480" cy="35179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3725640" y="2421000"/>
              <a:ext cx="1871640" cy="576360"/>
            </a:xfrm>
            <a:prstGeom prst="roundRect">
              <a:avLst>
                <a:gd name="adj" fmla="val 16667"/>
              </a:avLst>
            </a:prstGeom>
            <a:solidFill>
              <a:srgbClr val="e97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Голова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461880" y="5721480"/>
              <a:ext cx="1844640" cy="7081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з розвитку персонал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(навчання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>
              <a:off x="2639880" y="5721480"/>
              <a:ext cx="1805040" cy="71280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Управління кадр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11"/>
            <p:cNvSpPr/>
            <p:nvPr/>
          </p:nvSpPr>
          <p:spPr>
            <a:xfrm>
              <a:off x="4868640" y="5721480"/>
              <a:ext cx="1866960" cy="73188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Фінансов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2"/>
            <p:cNvSpPr/>
            <p:nvPr/>
          </p:nvSpPr>
          <p:spPr>
            <a:xfrm>
              <a:off x="7072200" y="5720040"/>
              <a:ext cx="1811160" cy="72216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інформаційн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технологі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>
              <a:off x="1373040" y="5510160"/>
              <a:ext cx="66261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137304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5"/>
            <p:cNvSpPr/>
            <p:nvPr/>
          </p:nvSpPr>
          <p:spPr>
            <a:xfrm>
              <a:off x="353376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6"/>
            <p:cNvSpPr/>
            <p:nvPr/>
          </p:nvSpPr>
          <p:spPr>
            <a:xfrm>
              <a:off x="583848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7"/>
            <p:cNvSpPr/>
            <p:nvPr/>
          </p:nvSpPr>
          <p:spPr>
            <a:xfrm>
              <a:off x="7999200" y="551664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8"/>
            <p:cNvSpPr/>
            <p:nvPr/>
          </p:nvSpPr>
          <p:spPr>
            <a:xfrm>
              <a:off x="1373040" y="4364280"/>
              <a:ext cx="66261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9"/>
            <p:cNvSpPr/>
            <p:nvPr/>
          </p:nvSpPr>
          <p:spPr>
            <a:xfrm>
              <a:off x="137304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0"/>
            <p:cNvSpPr/>
            <p:nvPr/>
          </p:nvSpPr>
          <p:spPr>
            <a:xfrm>
              <a:off x="353376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1"/>
            <p:cNvSpPr/>
            <p:nvPr/>
          </p:nvSpPr>
          <p:spPr>
            <a:xfrm>
              <a:off x="583848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2"/>
            <p:cNvSpPr/>
            <p:nvPr/>
          </p:nvSpPr>
          <p:spPr>
            <a:xfrm>
              <a:off x="7999200" y="4370400"/>
              <a:ext cx="0" cy="216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3"/>
            <p:cNvSpPr/>
            <p:nvPr/>
          </p:nvSpPr>
          <p:spPr>
            <a:xfrm>
              <a:off x="4894200" y="4567320"/>
              <a:ext cx="1849320" cy="7333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Адміністративни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AutoShape 24"/>
            <p:cNvSpPr/>
            <p:nvPr/>
          </p:nvSpPr>
          <p:spPr>
            <a:xfrm>
              <a:off x="2619360" y="4559400"/>
              <a:ext cx="1820520" cy="7207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зв'язків з ЗМІ 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громадскісьт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5"/>
            <p:cNvSpPr/>
            <p:nvPr/>
          </p:nvSpPr>
          <p:spPr>
            <a:xfrm>
              <a:off x="438120" y="4546800"/>
              <a:ext cx="1844640" cy="7207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Юридич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6"/>
            <p:cNvSpPr/>
            <p:nvPr/>
          </p:nvSpPr>
          <p:spPr>
            <a:xfrm>
              <a:off x="7048440" y="4572000"/>
              <a:ext cx="1844640" cy="722520"/>
            </a:xfrm>
            <a:prstGeom prst="roundRect">
              <a:avLst>
                <a:gd name="adj" fmla="val 16667"/>
              </a:avLst>
            </a:prstGeom>
            <a:solidFill>
              <a:srgbClr val="006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епарта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безпе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7"/>
            <p:cNvSpPr/>
            <p:nvPr/>
          </p:nvSpPr>
          <p:spPr>
            <a:xfrm>
              <a:off x="3733560" y="148428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97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Правлінн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8"/>
            <p:cNvSpPr/>
            <p:nvPr/>
          </p:nvSpPr>
          <p:spPr>
            <a:xfrm>
              <a:off x="4470120" y="3861000"/>
              <a:ext cx="43200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9"/>
            <p:cNvSpPr/>
            <p:nvPr/>
          </p:nvSpPr>
          <p:spPr>
            <a:xfrm>
              <a:off x="2635200" y="354024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e9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Дисциплінарна р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0"/>
            <p:cNvSpPr/>
            <p:nvPr/>
          </p:nvSpPr>
          <p:spPr>
            <a:xfrm>
              <a:off x="4876560" y="3524400"/>
              <a:ext cx="1844640" cy="576360"/>
            </a:xfrm>
            <a:prstGeom prst="roundRect">
              <a:avLst>
                <a:gd name="adj" fmla="val 16667"/>
              </a:avLst>
            </a:prstGeom>
            <a:solidFill>
              <a:srgbClr val="ee95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правлінн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нутрішньо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го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1400" spc="-1" strike="noStrike">
                  <a:solidFill>
                    <a:srgbClr val="000000"/>
                  </a:solidFill>
                  <a:latin typeface="Arial"/>
                </a:rPr>
                <a:t>аудит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Адміністративна систем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Шве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ції</a:t>
            </a: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Схема 5" descr=""/>
          <p:cNvPicPr/>
          <p:nvPr/>
        </p:nvPicPr>
        <p:blipFill>
          <a:blip r:embed="rId1"/>
          <a:stretch/>
        </p:blipFill>
        <p:spPr>
          <a:xfrm>
            <a:off x="414360" y="1603440"/>
            <a:ext cx="8497800" cy="41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50920" y="765000"/>
            <a:ext cx="8893080" cy="511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19320" y="1828800"/>
            <a:ext cx="1828800" cy="83808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Суди загально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юрисдикці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095880" y="1752480"/>
            <a:ext cx="2743200" cy="9907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Загаль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адміністраивні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219320" y="2666880"/>
            <a:ext cx="18288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Верховний су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095880" y="2666880"/>
            <a:ext cx="27432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Вищ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ий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219320" y="3429000"/>
            <a:ext cx="18288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пеляційні 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6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219320" y="4191120"/>
            <a:ext cx="182880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Районні суди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(49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6095880" y="3429000"/>
            <a:ext cx="2743200" cy="76212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пеляцій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6095880" y="4191120"/>
            <a:ext cx="274320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Адміністративн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Trebuchet MS"/>
              </a:rPr>
              <a:t>суди</a:t>
            </a:r>
            <a:r>
              <a:rPr b="0" lang="en-GB" sz="1500" spc="-1" strike="noStrike">
                <a:solidFill>
                  <a:srgbClr val="000000"/>
                </a:solidFill>
                <a:latin typeface="Trebuchet MS"/>
              </a:rPr>
              <a:t> (1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724280" y="5791320"/>
            <a:ext cx="2895840" cy="76176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Агенства над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Юридичн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допомог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1828800" y="5715000"/>
            <a:ext cx="2514600" cy="838080"/>
          </a:xfrm>
          <a:prstGeom prst="rect">
            <a:avLst/>
          </a:prstGeom>
          <a:solidFill>
            <a:srgbClr val="eaeaea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рибунал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 пита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вирішення спорів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орендних відносинах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</a:rPr>
              <a:t>(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066680" y="502920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ількість співробітників 3750,   з них 1150 суд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6095880" y="5029200"/>
            <a:ext cx="228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ількість співробітників 2050,      з них 600 судд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3200400" y="533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Система судової вл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7"/>
          <p:cNvGrpSpPr/>
          <p:nvPr/>
        </p:nvGrpSpPr>
        <p:grpSpPr>
          <a:xfrm>
            <a:off x="3657600" y="2438280"/>
            <a:ext cx="1828800" cy="2359080"/>
            <a:chOff x="3657600" y="2438280"/>
            <a:chExt cx="1828800" cy="2359080"/>
          </a:xfrm>
        </p:grpSpPr>
        <p:sp>
          <p:nvSpPr>
            <p:cNvPr id="70" name="Rectangle 18"/>
            <p:cNvSpPr/>
            <p:nvPr/>
          </p:nvSpPr>
          <p:spPr>
            <a:xfrm>
              <a:off x="3657600" y="2438280"/>
              <a:ext cx="1828800" cy="2359080"/>
            </a:xfrm>
            <a:prstGeom prst="rect">
              <a:avLst/>
            </a:prstGeom>
            <a:solidFill>
              <a:srgbClr val="eaeaea"/>
            </a:solidFill>
            <a:ln w="255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Національн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Судов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Адміністраці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500" spc="-1" strike="noStrike">
                  <a:solidFill>
                    <a:srgbClr val="000000"/>
                  </a:solidFill>
                  <a:latin typeface="Trebuchet MS"/>
                </a:rPr>
                <a:t>Швеці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9" descr="dv-vapen"/>
            <p:cNvPicPr/>
            <p:nvPr/>
          </p:nvPicPr>
          <p:blipFill>
            <a:blip r:embed="rId1"/>
            <a:stretch/>
          </p:blipFill>
          <p:spPr>
            <a:xfrm>
              <a:off x="4254480" y="3471840"/>
              <a:ext cx="671400" cy="1212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611280" y="1844640"/>
            <a:ext cx="360036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5600" y="517320"/>
            <a:ext cx="4960800" cy="15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и загальної юрисдикції</a:t>
            </a:r>
            <a:br>
              <a:rPr sz="40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айон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4829040" y="9360"/>
            <a:ext cx="334008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Object 6"/>
          <p:cNvGraphicFramePr/>
          <p:nvPr/>
        </p:nvGraphicFramePr>
        <p:xfrm>
          <a:off x="1523880" y="1752480"/>
          <a:ext cx="287280" cy="276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752480"/>
                    <a:ext cx="28728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Різновиди справ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uk-UA" sz="4000" spc="-1" strike="noStrike">
                <a:solidFill>
                  <a:srgbClr val="333399"/>
                </a:solidFill>
                <a:latin typeface="Arial"/>
              </a:rPr>
              <a:t>районні су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Криміна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вбивство, насильство, сексуальні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омогання та схожі 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ограбування, крадіжки і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хожі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Економічні злочини т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шахра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рібні правопорушення  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рави розглядаються  визначеною особою – помічник судді, стажер на посаду судді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ші злоч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Циві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імей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йнові спори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незначна ціна позову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нші цивільні спра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рави по навколишньому середовищ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Майнові спор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0" t="0" r="68313" b="21975"/>
          <a:stretch/>
        </p:blipFill>
        <p:spPr>
          <a:xfrm>
            <a:off x="250920" y="665280"/>
            <a:ext cx="3744720" cy="568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468360" y="1052640"/>
            <a:ext cx="360036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457200" y="2895480"/>
            <a:ext cx="417672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25600" y="404640"/>
            <a:ext cx="5798880" cy="18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и загально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пеляцій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5"/>
          <a:stretch/>
        </p:blipFill>
        <p:spPr>
          <a:xfrm>
            <a:off x="3962520" y="0"/>
            <a:ext cx="3303360" cy="659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Object 9"/>
          <p:cNvGraphicFramePr/>
          <p:nvPr/>
        </p:nvGraphicFramePr>
        <p:xfrm>
          <a:off x="1676520" y="1752480"/>
          <a:ext cx="358560" cy="314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76520" y="1752480"/>
                    <a:ext cx="35856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0" r="68313" b="21975"/>
          <a:stretch/>
        </p:blipFill>
        <p:spPr>
          <a:xfrm>
            <a:off x="250920" y="665280"/>
            <a:ext cx="3744720" cy="568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468360" y="1052640"/>
            <a:ext cx="3600360" cy="51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11280" y="1844640"/>
            <a:ext cx="424800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64960" indent="-26496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Криміна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Цивільні спра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523800" y="404640"/>
            <a:ext cx="5343480" cy="17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и загально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ерховний с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5"/>
          <a:stretch/>
        </p:blipFill>
        <p:spPr>
          <a:xfrm>
            <a:off x="4846680" y="31680"/>
            <a:ext cx="3338640" cy="655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Object 9"/>
          <p:cNvGraphicFramePr/>
          <p:nvPr/>
        </p:nvGraphicFramePr>
        <p:xfrm>
          <a:off x="1523880" y="1676520"/>
          <a:ext cx="298440" cy="27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1676520"/>
                    <a:ext cx="2984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154080" y="9036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6332400" cy="7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гальні адміністративні суди</a:t>
            </a:r>
            <a:br>
              <a:rPr sz="40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дміністративні су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1989000"/>
            <a:ext cx="4465440" cy="281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90000" tIns="46800" bIns="46800" anchor="ctr">
            <a:noAutofit/>
          </a:bodyPr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 між  фізичною особою 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ами державної влад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 з податкових спо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рави,передбачені  Актом на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іальних послуг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890960" y="174600"/>
            <a:ext cx="3252960" cy="64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4848120" y="49320"/>
            <a:ext cx="3322800" cy="654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7"/>
          <p:cNvGraphicFramePr/>
          <p:nvPr/>
        </p:nvGraphicFramePr>
        <p:xfrm>
          <a:off x="533520" y="1219320"/>
          <a:ext cx="4284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219320"/>
                    <a:ext cx="4284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Різновиди справ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адміністративні с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оловні категор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з податкових спо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соціального страх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бачені Актом на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іальних по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щодо визначення психічного стану ос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Справи по соціальному забезпечен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іграційні спр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нші спра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15:5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