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F06E-8F26-4B74-B825-9D3535C200F2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9102-BB70-405F-899D-5FBAD19F6D40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bild - välkom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8120" cy="673416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8000" y="6524280"/>
            <a:ext cx="9036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  <a:defRPr b="0" lang="sv-SE" sz="8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FD545260-FE35-42E9-A555-06823E5F8273}" type="slidenum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 SVERIGES DOMSTOLAR    </a:t>
            </a:r>
            <a:fld id="{243A1C66-32F1-43E8-9DBD-7A18BB5788FF}" type="datetime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0"/>
            <a:ext cx="168120" cy="673416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3" name="Picture 12" descr="sd_color_b1"/>
          <p:cNvPicPr/>
          <p:nvPr/>
        </p:nvPicPr>
        <p:blipFill>
          <a:blip r:embed="rId2"/>
          <a:stretch/>
        </p:blipFill>
        <p:spPr>
          <a:xfrm>
            <a:off x="3203640" y="4653000"/>
            <a:ext cx="2808360" cy="163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108000" y="6524280"/>
            <a:ext cx="9036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  <a:defRPr b="0" lang="sv-SE" sz="8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80F4ACB0-C353-4FDB-8182-AA418AD9D570}" type="slidenum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 SVERIGES DOMSTOLAR    </a:t>
            </a:r>
            <a:fld id="{91DC7AC2-D22D-4B0D-914C-0442E73E2F1A}" type="datetime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E436ED1F-040C-4B59-A244-ABE14D7EAD88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EEEFFD8C-CFC6-4BF0-B559-63D0FF68253B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69080" cy="21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499"/>
              </a:lnSpc>
              <a:spcBef>
                <a:spcPts val="2100"/>
              </a:spcBef>
              <a:spcAft>
                <a:spcPts val="18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Garamond"/>
              </a:rPr>
              <a:t>Public relations-Public Trust and Confidence in the Courts</a:t>
            </a: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92" name="Picture 19" descr=""/>
          <p:cNvPicPr/>
          <p:nvPr/>
        </p:nvPicPr>
        <p:blipFill>
          <a:blip r:embed="rId1"/>
          <a:stretch/>
        </p:blipFill>
        <p:spPr>
          <a:xfrm>
            <a:off x="163440" y="2349360"/>
            <a:ext cx="898056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D1B8E2C1-1F60-4673-B99F-654FDFE4AB96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570B6C48-D46A-492C-B85B-C070771DEE51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3399"/>
                </a:solidFill>
                <a:latin typeface="Garamond"/>
              </a:rPr>
              <a:t>Important factors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The accessibility of the courts and the court staff for parties and people giving evidence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The courts’ reception of parties and people giving evidence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rebuchet MS"/>
              </a:rPr>
              <a:t>Processing times at the court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The transparency of the courts’ decision-making processe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The formulation of judgements and decision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The way in which activities of the courts are portrayed by the media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The knowledge of the general public about what goes on in the court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rebuchet MS"/>
              </a:rPr>
              <a:t>The conduct of judge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A87432F6-7C11-46B9-A47C-32ADAAEC25A5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C78959C1-71E6-499B-8C48-D2A968448B92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Garamond"/>
              </a:rPr>
              <a:t>Measures for improving the reception of parties and people giving evidence </a:t>
            </a:r>
            <a:endParaRPr b="1" lang="en-US" sz="2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Guidelines for what parties and people giving evidence have reason to expect and the demands that can be placed on the staff of courts with regard to the person-to-person reception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All courts should offer the same accessibility with regard to telephone and office hours and contacts by email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Information to parties and people giving evidence about what goes on in the court and what is expected of them available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The reception of people appearing at court is to improve and in the larger courts, there should be special service staff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All the staff at courts are to be trained with regard to reception issue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35B9303D-1A20-4118-BE02-289F6843F999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7078B6D0-21DB-4CB7-93FA-2FF107DFBE1C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Garamond"/>
              </a:rPr>
              <a:t>Measures to improve the formulation of judgements and decisions </a:t>
            </a:r>
            <a:endParaRPr b="1" lang="en-US" sz="2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Regulations on the formal and graphic design of judgements and decision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Recommendations for how judgements and decisions should be formulated with regard to readability and judicial argumentation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All court lawyers are to be trained in issues concerning the formulation of judgements and decisions.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4E9FA2B2-1E19-4C9B-B9E6-558EB809E300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BA5C376C-31D2-4F45-BB2C-F115DCD2DD41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Garamond"/>
              </a:rPr>
              <a:t>Vigorous measures to improve the courts’ contacts with the media </a:t>
            </a:r>
            <a:endParaRPr b="1" lang="en-US" sz="2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Judges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are primarily to manage contacts with the media concerning the cases and matters for which they are responsible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Heads of courts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are to contribute to creating an atmosphere of openness at courts and a willingness to provide information to the media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Media judges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are to be available at the courts where there is a need for such a judge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A media group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of media judges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acting as a body for the regular exchange of experience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The National Courts Administration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is to have overall responsibility for training judges in media issues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A Press Service at the National Courts Administration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is to act as a starting point for journalists and others who have questions about activities in the court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rebuchet MS"/>
              </a:rPr>
              <a:t>A Spokesperson for the Swedish courts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who can represent the courts and provide information about the activities of the courts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C1157B7E-2F04-4759-82AD-B5A34F2E2B04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B2B8702A-A1F1-42E7-A112-30C2CE08F786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Garamond"/>
              </a:rPr>
              <a:t>Other measures to strengthen trust in the courts</a:t>
            </a:r>
            <a:r>
              <a:rPr b="1" lang="sv-SE" sz="28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1" lang="en-US" sz="2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Better websit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Parties access to information on their very own cas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Electronic case manageme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Routines to cover the information on blogs, communit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Greater opennes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rebuchet MS"/>
              </a:rPr>
              <a:t>Visits of school class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Trebuchet MS"/>
              </a:rPr>
              <a:t>Open house visits to the cou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3:19:05Z</dcterms:created>
  <dc:creator>camista</dc:creator>
  <dc:description/>
  <dc:language>en-US</dc:language>
  <cp:lastModifiedBy>lipovyi</cp:lastModifiedBy>
  <dcterms:modified xsi:type="dcterms:W3CDTF">2013-08-01T09:23:28Z</dcterms:modified>
  <cp:revision>253</cp:revision>
  <dc:subject/>
  <dc:title>Sveriges Domstolar</dc:title>
</cp:coreProperties>
</file>