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8AF9F-C7E2-4FF2-8A9A-E875083A9F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F56D-860F-400B-B522-57FCB0254120}"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5051-C8AF-498A-B3E3-56AC093AA36B}"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gualtiero.michelini@giustizia.i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riteria for evaluation of organisation of the judiciary in preventing and comba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ternal independen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each individual judge in the exercise of adjudicating functions, without any restriction, improper influence, pressures, threats or interferences, from any authority, including authorities internal to the judiciary, in the decision-mak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The allocation of cases within a court should follow objective pre-established criteria, as well as the withdrawal of a case.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Freedom to form and join professional organisations whose objectives are to safeguard independence of judges, protect their interests and promote the rule of law is to be ensured.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Efficiency as the delivery of quality decisions within a reasonable time. </a:t>
            </a:r>
            <a:endParaRPr b="0" lang="en-US" sz="2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Adequate allocation of resources, facilities and equipment to the courts to enable them to function in accordance with the standards of the fair trial </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4" name="Rectangle 3"/>
          <p:cNvSpPr/>
          <p:nvPr/>
        </p:nvSpPr>
        <p:spPr>
          <a:xfrm>
            <a:off x="685800" y="19162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r>
              <a:rPr b="0" lang="en-GB" sz="2000" spc="-1" strike="noStrike">
                <a:solidFill>
                  <a:srgbClr val="2d2015"/>
                </a:solidFill>
                <a:latin typeface="Arial"/>
              </a:rPr>
              <a:t>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llocation of  a sufficient number of judges and appropriately qualified and experienced professional staff</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Use of electronic case management systems and information communication technolog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ultation of Councils for the Judiciary or other independent authorities with responsibility for the administration of courts, the courts themselves and/or judges’ professional organisations when the judicial system’s budget is being prepared</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vision of appropriate means to fulfil judicial functions efficiently in cases involving foreign or international element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Councils for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Where existing, Councils for the Judiciary are governing bodies that have proved to be essential in safeguarding the independence of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he establishment of such Councils at the constitutional or highest possible legal level, is recommended -  not less than half the members of such Councils should be judges elected by their peers and with full respect for pluralism inside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Opinion n. 10 CCJ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1"/>
          <a:stretch/>
        </p:blipFill>
        <p:spPr>
          <a:xfrm>
            <a:off x="0" y="5845320"/>
            <a:ext cx="5435640" cy="1012680"/>
          </a:xfrm>
          <a:prstGeom prst="rect">
            <a:avLst/>
          </a:prstGeom>
          <a:ln w="0">
            <a:noFill/>
          </a:ln>
        </p:spPr>
      </p:pic>
      <p:sp>
        <p:nvSpPr>
          <p:cNvPr id="12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Status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Selection and career of judges - </a:t>
            </a:r>
            <a:r>
              <a:rPr b="0" lang="en-GB" sz="2000" spc="-1" strike="noStrike">
                <a:solidFill>
                  <a:srgbClr val="2d2015"/>
                </a:solidFill>
                <a:latin typeface="Arial"/>
              </a:rPr>
              <a:t> decisions on selection and career based on objective criteria pre-established by law or by the competent authorities, having regard to merit, qualifications, skills, capacity, and respect to human dignity -  independence of the executive and legislative powers - right to challenge the procedure</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Tenure - </a:t>
            </a:r>
            <a:r>
              <a:rPr b="0" lang="en-GB" sz="2000" spc="-1" strike="noStrike">
                <a:solidFill>
                  <a:srgbClr val="2d2015"/>
                </a:solidFill>
                <a:latin typeface="Arial"/>
              </a:rPr>
              <a:t> security of tenure (guaranteed tenure until a mandatory retirement age) and irremovability (consent of the judge to a new appointment or to transfer, except in cases of disciplinary sanctions or reform of the organisation)</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Remuneration </a:t>
            </a:r>
            <a:r>
              <a:rPr b="0" lang="en-GB" sz="2000" spc="-1" strike="noStrike">
                <a:solidFill>
                  <a:srgbClr val="2d2015"/>
                </a:solidFill>
                <a:latin typeface="Arial"/>
              </a:rPr>
              <a:t> - commensurate with profession and responsibilitie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7" name="Immagine 9" descr="logo_mau.JPG"/>
          <p:cNvPicPr/>
          <p:nvPr/>
        </p:nvPicPr>
        <p:blipFill>
          <a:blip r:embed="rId1"/>
          <a:stretch/>
        </p:blipFill>
        <p:spPr>
          <a:xfrm>
            <a:off x="0" y="5845320"/>
            <a:ext cx="5435640" cy="1012680"/>
          </a:xfrm>
          <a:prstGeom prst="rect">
            <a:avLst/>
          </a:prstGeom>
          <a:ln w="0">
            <a:noFill/>
          </a:ln>
        </p:spPr>
      </p:pic>
      <p:sp>
        <p:nvSpPr>
          <p:cNvPr id="12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Duties and responsibilit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tection of the rights and freedoms of all persons equally, respecting their dignity in the conduct of court proceeding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Management of each case with due diligence and within a reasonable tim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asoning of judgement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gular train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Specific rules on civil, criminal and disciplinary li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ny reference to the concept of immunity, general or functional, deliberately avoided in the text of the Recommendation</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motion of codes of judicial ethics, as a means to uphold justice and strengthen public confidence in the judiciary.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0" y="184464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2" name="Immagine 9" descr="logo_mau.JPG"/>
          <p:cNvPicPr/>
          <p:nvPr/>
        </p:nvPicPr>
        <p:blipFill>
          <a:blip r:embed="rId1"/>
          <a:stretch/>
        </p:blipFill>
        <p:spPr>
          <a:xfrm>
            <a:off x="0" y="5845320"/>
            <a:ext cx="5435640" cy="1012680"/>
          </a:xfrm>
          <a:prstGeom prst="rect">
            <a:avLst/>
          </a:prstGeom>
          <a:ln w="0">
            <a:noFill/>
          </a:ln>
        </p:spPr>
      </p:pic>
      <p:sp>
        <p:nvSpPr>
          <p:cNvPr id="13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00)19 on Public Prosecutors</a:t>
            </a:r>
            <a:endParaRPr b="0" lang="en-US" sz="2000" spc="-1" strike="noStrike">
              <a:solidFill>
                <a:srgbClr val="2d2015"/>
              </a:solidFill>
              <a:latin typeface="Arial"/>
            </a:endParaRPr>
          </a:p>
        </p:txBody>
      </p:sp>
      <p:sp>
        <p:nvSpPr>
          <p:cNvPr id="13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015"/>
                </a:solidFill>
                <a:latin typeface="Arial"/>
              </a:rPr>
              <a:t>Recommendation 2000)19 of the Committee of Ministers to member states on the role of public prosecution in the criminal justice system </a:t>
            </a:r>
            <a:r>
              <a:rPr b="0" i="1" lang="en-US" sz="1800" spc="-1" strike="noStrike">
                <a:solidFill>
                  <a:srgbClr val="2d2015"/>
                </a:solidFill>
                <a:latin typeface="Arial"/>
              </a:rPr>
              <a:t>(Adopted by the Committee of Ministers on 6 October 2000)</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Functions of the public prosecutor</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Safeguards provided to public prosecutors for carrying out their functions</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executive and legislative powers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court judge</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police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it-IT" sz="1800" spc="-1" strike="noStrike">
                <a:solidFill>
                  <a:srgbClr val="2d2015"/>
                </a:solidFill>
                <a:latin typeface="Arial"/>
              </a:rPr>
              <a:t>International </a:t>
            </a:r>
            <a:r>
              <a:rPr b="0" i="1" lang="en-GB" sz="1800" spc="-1" strike="noStrike">
                <a:solidFill>
                  <a:srgbClr val="2d2015"/>
                </a:solidFill>
                <a:latin typeface="Arial"/>
              </a:rPr>
              <a:t>co-operation</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7" name="Immagine 9" descr="logo_mau.JPG"/>
          <p:cNvPicPr/>
          <p:nvPr/>
        </p:nvPicPr>
        <p:blipFill>
          <a:blip r:embed="rId1"/>
          <a:stretch/>
        </p:blipFill>
        <p:spPr>
          <a:xfrm>
            <a:off x="0" y="5845320"/>
            <a:ext cx="5435640" cy="1012680"/>
          </a:xfrm>
          <a:prstGeom prst="rect">
            <a:avLst/>
          </a:prstGeom>
          <a:ln w="0">
            <a:noFill/>
          </a:ln>
        </p:spPr>
      </p:pic>
      <p:sp>
        <p:nvSpPr>
          <p:cNvPr id="13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39"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forms including a strong ethical componen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judges and autonomy of prosecutors t be assured through legislative provisions preventing undue political influence on work and career development of judges and prosecutor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counterbalanced by account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ssue of immunity vis-à-vis judicial independence Forms of functional limitation of liability might be needed  but criminal liability for offences committed outside judicial office (e.g. accept bribes) is not to be limited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Need of effectiveness of disciplinary liability In case of misbehaviour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4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2" name="Immagine 9" descr="logo_mau.JPG"/>
          <p:cNvPicPr/>
          <p:nvPr/>
        </p:nvPicPr>
        <p:blipFill>
          <a:blip r:embed="rId1"/>
          <a:stretch/>
        </p:blipFill>
        <p:spPr>
          <a:xfrm>
            <a:off x="0" y="5845320"/>
            <a:ext cx="5435640" cy="1012680"/>
          </a:xfrm>
          <a:prstGeom prst="rect">
            <a:avLst/>
          </a:prstGeom>
          <a:ln w="0">
            <a:noFill/>
          </a:ln>
        </p:spPr>
      </p:pic>
      <p:sp>
        <p:nvSpPr>
          <p:cNvPr id="14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4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d2015"/>
                </a:solidFill>
                <a:latin typeface="Arial"/>
              </a:rPr>
              <a:t> </a:t>
            </a:r>
            <a:r>
              <a:rPr b="0" lang="en-GB" sz="2000" spc="-1" strike="noStrike">
                <a:solidFill>
                  <a:srgbClr val="2d2015"/>
                </a:solidFill>
                <a:latin typeface="Arial"/>
              </a:rPr>
              <a:t>Credible track record as regards final court judgements in high level corruption cas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wareness of complexity of financial crime cases and allocation of appropriate and specialise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 depth audit review of the anti-corruption framework (institutional and legal) which allows identifying the main weaknesses and how to address them</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void both political influence on the judiciary and self-protection and cronyism of  high judicial council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volvement of the civil society</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b400"/>
                </a:solidFill>
                <a:uFillTx/>
                <a:latin typeface="Arial Black"/>
                <a:hlinkClick r:id="rId1"/>
              </a:rPr>
              <a:t>	gualtiero.michelini@giustizia.it</a:t>
            </a:r>
            <a:endParaRPr b="0" lang="en-US" sz="2000" spc="-1" strike="noStrike">
              <a:solidFill>
                <a:srgbClr val="2d2015"/>
              </a:solidFill>
              <a:latin typeface="Arial"/>
            </a:endParaRPr>
          </a:p>
        </p:txBody>
      </p:sp>
      <p:sp>
        <p:nvSpPr>
          <p:cNvPr id="14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7" name="Immagine 9" descr="logo_mau.JPG"/>
          <p:cNvPicPr/>
          <p:nvPr/>
        </p:nvPicPr>
        <p:blipFill>
          <a:blip r:embed="rId2"/>
          <a:stretch/>
        </p:blipFill>
        <p:spPr>
          <a:xfrm>
            <a:off x="0" y="5845320"/>
            <a:ext cx="5435640" cy="1012680"/>
          </a:xfrm>
          <a:prstGeom prst="rect">
            <a:avLst/>
          </a:prstGeom>
          <a:ln w="0">
            <a:noFill/>
          </a:ln>
        </p:spPr>
      </p:pic>
      <p:sp>
        <p:nvSpPr>
          <p:cNvPr id="148"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49"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50"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Integrity, independence and impartiality of the judiciary are essential prerequisites for the effective protection of human rights and economic development and for ensuring that there was no discrimination in the administration of justice, (Res. ECOSOC 2006/23)</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Preambl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Universal Declaration of Human Rights - principle that everyone is entitled in full equality to a fair and public hearing by an independent and impartial tribunal, established by the law, in the determination of rights and obligations and of any criminal charg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importance of a competent, independent and impartial judiciary to the protection of human rights  - implementation of all the other rights ultimately depends upon the proper administration of justi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A competent, independent and impartial judiciary is likewise essential if the courts are to </a:t>
            </a:r>
            <a:r>
              <a:rPr b="0" lang="en-GB" sz="2000" spc="-1" strike="noStrike">
                <a:solidFill>
                  <a:srgbClr val="2d2015"/>
                </a:solidFill>
                <a:latin typeface="Arial"/>
              </a:rPr>
              <a:t>fulfil their role in upholding constitutionalism and the rule of law</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inciples</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dependence</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arti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prie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Equ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etence and Dilig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lementation (effective resourc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grity</a:t>
            </a:r>
            <a:endParaRPr b="0" lang="en-US" sz="2000" spc="-1" strike="noStrike">
              <a:solidFill>
                <a:srgbClr val="2d2015"/>
              </a:solidFill>
              <a:latin typeface="Arial"/>
            </a:endParaRPr>
          </a:p>
        </p:txBody>
      </p:sp>
      <p:sp>
        <p:nvSpPr>
          <p:cNvPr id="7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 is essential to the proper discharge of the judicial </a:t>
            </a:r>
            <a:r>
              <a:rPr b="0" lang="it-IT" sz="2400" spc="-1" strike="noStrike">
                <a:solidFill>
                  <a:srgbClr val="2d2015"/>
                </a:solidFill>
                <a:latin typeface="Arial"/>
              </a:rPr>
              <a:t>offi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d2015"/>
                </a:solidFill>
                <a:latin typeface="Arial"/>
              </a:rPr>
              <a:t>Applica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1. A judge shall ensure that his or her conduct is above reproach in the view of a reasonable observer.</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2. The </a:t>
            </a:r>
            <a:r>
              <a:rPr b="0" lang="en-GB" sz="2400" spc="-1" strike="noStrike">
                <a:solidFill>
                  <a:srgbClr val="2d2015"/>
                </a:solidFill>
                <a:latin typeface="Arial"/>
              </a:rPr>
              <a:t>behaviour</a:t>
            </a:r>
            <a:r>
              <a:rPr b="0" lang="en-US" sz="2400" spc="-1" strike="noStrike">
                <a:solidFill>
                  <a:srgbClr val="2d2015"/>
                </a:solidFill>
                <a:latin typeface="Arial"/>
              </a:rPr>
              <a:t> and conduct of a judge must reaffirm the people’s faith in the integrity of the judiciary. Justice must not merely be done but must also be seen to be done.</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a:t>
            </a:r>
            <a:endParaRPr b="0" lang="en-US" sz="2000" spc="-1" strike="noStrike">
              <a:solidFill>
                <a:srgbClr val="2d2015"/>
              </a:solidFill>
              <a:latin typeface="Arial"/>
            </a:endParaRPr>
          </a:p>
        </p:txBody>
      </p:sp>
      <p:sp>
        <p:nvSpPr>
          <p:cNvPr id="8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tandard-setting activity of Co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Arial"/>
              </a:rPr>
              <a:t>Recommendation CM/Rec(2010)12 of the Committee of Ministers to member states on judges: independence, efficiency and responsibilities </a:t>
            </a:r>
            <a:r>
              <a:rPr b="0" i="1" lang="en-GB" sz="1600" spc="-1" strike="noStrike">
                <a:solidFill>
                  <a:srgbClr val="2d2015"/>
                </a:solidFill>
                <a:latin typeface="Arial"/>
              </a:rPr>
              <a:t>(Adopted by the Committee of Ministers on 17 November 2010)</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Art. 6 ECHR</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Diverse experiences and  legal system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Common core-values of democracy and rule of law</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8 chapters – 74 paragraphs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8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General aspects</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Judicial independence as a fundamental right; its purpose is to guarantee every person the right to have their case decided in a fair trial, on legal grounds only and without any improper influ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The level at which judicial independence should be safeguarded is the constitutional or highest possible legal level in member States with more specific rules provided at the legislative level.</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d2015"/>
                </a:solidFill>
                <a:latin typeface="Arial"/>
              </a:rPr>
              <a:t>External independence</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decisions should be reasoned and made public. Decisions of judges should not be subject to any revision other than appellate or re-opening proceedings as provided for by law.</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matters are of public interest. </a:t>
            </a:r>
            <a:endParaRPr b="0" lang="en-US" sz="3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External independ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Link between independence of judges and the principle of equality of citizens before the law.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Independence of the judiciary as a whole is not a prerogative or privilege, but it is granted in the interest of the rule of law and of persons seeking and expecting impartial justice.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As judges operate in the society, they should maintain appropriate working relationships with institutions and public authorities involved in the management and administration of the courts as well as professionals to facilitate an effective and efficient administration of justic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michelini</cp:lastModifiedBy>
  <cp:lastPrinted>2008-06-02T19:37:29Z</cp:lastPrinted>
  <dcterms:modified xsi:type="dcterms:W3CDTF">2013-01-31T15:14:02Z</dcterms:modified>
  <cp:revision>336</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