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CEF69-59A3-40A2-BFFB-BA6892EE1F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E921-DE13-4131-9CCE-A909631444A3}"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Black"/>
              </a:rPr>
              <a:t>	</a:t>
            </a:r>
            <a:r>
              <a:rPr b="0" lang="en-GB" sz="2000" spc="-1" strike="noStrike">
                <a:solidFill>
                  <a:srgbClr val="2d2015"/>
                </a:solidFill>
                <a:latin typeface="Arial Black"/>
              </a:rPr>
              <a:t>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0T22:37:54Z</dcterms:modified>
  <cp:revision>31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