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D1C8FB9-0622-4504-B5A4-74AAA2BCD7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3518A8F-072D-4DEA-BB6B-1FB3556B94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EB562CA-7BF6-4ECF-9FCD-15F619C44E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493A227-1F9A-4113-A6A3-B4710DEBDF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CD51D1A-D0F7-4341-AD54-30DD968A5F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E64ABFE-DC3C-456A-B660-0504920871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24539C7-A137-40B7-AB26-DFD886A8EA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6E66C01-3A1D-4E35-B11C-3C7DDCA4AE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9899832-BB9B-4830-BF70-24AA4206DC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5EC-2093-4907-8D7C-BC3B2416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7685-CDFD-4C47-96E4-40134CE5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39D5C-BA65-4C5F-977E-847B8785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EB5CE-4763-4D4E-938A-79CC52F1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56C5A7-A43A-4F2B-9CCE-9AFF267A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74953-DB93-4FBA-82B3-25AB5BD7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C0602-A4A6-436C-97E6-C85F1B9F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6EFF9-0DAC-4886-A9C5-2EBC31E1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F7157-F13E-4863-B738-C88C1A1F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E2AE9-C6E8-4EF4-B8B8-BA8819B9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CC784-C37D-4AD2-8FE8-CE4E9851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82F41-6361-4122-9D57-97838EC6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C3B-6A73-4F85-B612-306C1E25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1BACE-BA56-4ABA-AE2A-86DAA3BD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5A517-C381-4789-BDF8-7B00D552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8CBD0-ABC8-4D62-B9E3-12CB44A4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59EEA-C54A-4FEE-BA65-2114D435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BAF01-A019-4E04-8AA6-32AC9776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C3C3D-22B3-438D-BEA0-2C544823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CFC91-553C-4A49-A4D8-7FE0CEBC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890C2-6F46-4DF0-ABAB-06E6DE3F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AC7B1-206A-4E0E-94B9-B8F8B33E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DD9033-FD72-42CE-A9B9-AD7BAE84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41B-2CFF-4C50-A84D-18565059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967D6-594D-4F86-A657-5BA7B93D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D0AF6-C091-4B1C-B3BD-1E1E488D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68013-421E-4324-B855-17E1AAA8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06E85-7CE4-430D-B73A-185B5EF7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1A63D-D160-4E73-8859-E4FA111F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1436D-76F1-4BF1-9A3F-9C5C7912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47B8D-C19C-409D-AEF0-7FCCB5BE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2BF8E-B6AF-4F2B-973B-82099017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EFC5D-BA81-41DC-BF71-F70EB652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AA89A-F109-46FA-885B-5023D509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490E-C6A3-4FD8-9966-E7283A74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AC0A1-21D9-4C12-AB4A-30588782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A57F17-BE6E-45F6-8D54-ADB289AD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AEC39-E383-4247-A857-B6229353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53C8B-1535-45FC-A584-30E1D0EF0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E6A4C-8950-44E8-92B8-D9E5D2A7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6E2B51-DAD5-4F69-B55A-CF22F74B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EBA29-06F0-4825-A8CC-B4EC4FA9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69698-2D35-4244-AB5A-B58D5472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1BDC1-61C8-4AC6-88FA-75D61565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18278-7F11-4809-BDC5-81D3500A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02F2-D5E8-4D80-B7F4-67218DC2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CECF7-1703-4537-B8B1-308CE801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3195C-3CD9-4C15-B00D-70E0863E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536A4-97E7-4A7F-AA6A-DEC4DC4C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61AE85-7A34-4252-BE22-5DFFB553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03645-0D48-43DF-99B4-B8B3A7B8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4D471-DBF4-4CCC-9991-D0BF3D2A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FBBB0-CC90-4CED-8FA6-4F15F781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152B32-548F-4416-8283-2F7680F0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B11B0-E663-404A-9255-78DD0DF5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EB2CB-5C47-4610-A2A9-EC2D5D23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F610-91FC-4FC1-8D19-9986A0A5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1992D-1803-456D-B19C-3F5514D1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760124-54C9-4911-A119-81A12DE9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17F22-25FD-4E4C-B337-ABA23090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3A8476-0650-4229-A963-A666F471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BAF47B-5F59-4CEB-8C35-28235F65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95A65-2E82-4495-A78A-5DD8203F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C17801-E06B-4F25-9F1F-3DB11B2D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3A14-DE89-42CE-9071-92AB8B4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0DF9-7976-44D9-944E-26B4BAD1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F1E9-3D3F-469B-87F7-BE964D1D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6AC1-4B21-44B8-AD3E-86A62B8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DCB-2573-414A-8374-24BA6A6E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0E0F-DD66-4CE4-9E8F-8735B140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81AC-E692-46B2-BB0F-8B0C9A1A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23F8-993D-41C3-A893-F2A02EDF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D7A6-F90F-402A-A5E5-5A744B78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BD95-A818-4B87-9B20-E7A88042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3E00-E789-43B8-9307-B5112A7F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F2CED-12B7-47F5-9CF1-AF9A3754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8B1DE-DACB-45D4-B305-84167350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3E83-0E77-452E-87E6-1089732C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98009-F24C-438C-9D90-6087CAFF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6A9C-6006-40DB-98DE-9AA0D935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1EE3C-F3DF-48D3-986B-AEE5F471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36D76-3502-4C37-A2AA-3346AFE3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93C4C-5374-4FB5-BE0D-636A35C5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E585D-7E9E-48A5-B3BA-F60D6E6B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736D2-F1D6-48DD-A06C-6F93314F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B22B0-98DE-41A7-B54A-98A17B8E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B3B77-E1A5-4ACC-A49E-C87C14CC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AEE5-F7D8-43F6-BFB7-6169E843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B2B2C-87CC-4C98-B2EF-53E28758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2882-7FAB-466A-85AB-4E780A66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E74-0E75-44F4-9A6A-40690C06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6698A-705A-4CD4-B3CF-CE79F0D6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569F6-BA14-44C5-A66C-F35A418E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436F3-973B-44B9-8F24-14D813C6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8E382-C5E0-43FC-A8C7-B667D44A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B780E-C693-47F3-BA65-F1557A5D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81A12-B946-4BC7-B0C0-6C3C101B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F8C35-16D1-46EE-8BEB-D646EAED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6C9E3-D0BE-4826-ACD6-73C96D77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CCB3D-A9F3-4D00-891A-0CC40405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5300B-2234-448F-93CD-2D9E1F7E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C427-6CEC-4027-853D-F4B30D4C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2D4FE-D6D7-438F-BF7D-022A7A5B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35FF5-0631-4355-89C5-31F1BC41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C1F34-B803-47E1-A95A-20260021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22927-3257-4010-B796-E0CC7ABC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9B9B7-86BC-489A-BEF4-C794B5AE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E35BA-8EBF-4445-8D11-BBA1696E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F7624-F685-4C93-A89E-58D7919F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5E535-816E-4B13-B1CB-A8C72C21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0ADC3-BDB3-4263-A8A0-B523C5D1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D1EB1-1C1A-4A14-A607-E9685E24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A4AE-6FEF-42CE-8446-0C73A260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1BC67-4E0E-44B3-9224-41B2F4FA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C79A0-57D3-4E4F-866A-30122ABD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27AE9-1851-495F-AD88-C64E2B51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FE7EF-27C8-46E2-92D8-D79AC73B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D7E43-EB43-4B96-A317-2ABADB6A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B0390-9557-45E4-AD08-F703E166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5B392-FD68-49C6-A263-4BC532C1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3143C-4670-48F7-A20B-2ACD4CDC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9E7C2-4D2F-4583-9A2C-078750AA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365EF-48E3-462E-8175-08E09EAC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F4FE-571D-44C0-9C99-B6D2C43C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2C73C-81AF-4964-A313-AB8FCA69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B9DBE-C142-4C15-9F68-35262F6B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B660D-D10B-4586-8AC9-B38F04AB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B5856-A6FB-4889-84EA-9C67B23C5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83987-27A1-402F-B47D-F598DFE6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B430C-7085-4440-89E2-A1528EEC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BADF2-4B8F-4CF7-9ADC-7A838120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C2A73-9721-4B35-A464-80DEA673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23D49-7BC3-4AE5-813C-A4310682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DFAAC-C4C7-4944-8509-6059015C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BEB1-0BB0-4C6A-8C31-01051868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427D6-8BA6-4C88-B251-3815C9A0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F98FA-9D8C-451B-8FA5-FAB6C0F5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18628-A79C-44EB-9954-D799879B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3D98C-0E9A-454E-873D-14130FA2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960D5-F346-404F-AEF6-CF18F1E4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3EAB2-ED0A-4210-82A9-C889642B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1459F-7EA7-4045-B6EE-8011D49F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76822-4340-43C2-8068-DCCE72D9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C9C5C-A014-4819-9DE0-EC611159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0A5BD-9815-43EA-863A-474ADEFF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E14-C487-41DA-A9BD-1AEF212B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5A1A6-FDA1-4AB3-B043-74F6D07B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B1303-F690-4537-B34F-A1F8163C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05F64-C93C-414B-B537-DE3B986F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050DD-E0D7-4CB0-A484-AE4C0677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5360" y="3965040"/>
            <a:ext cx="891360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B1658-C777-423D-9EE4-87BAACEF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62680" y="15998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536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62680" y="3965040"/>
            <a:ext cx="43495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57AFB-3085-4529-8A74-4B24E77F3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0928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2840" y="15998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536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0928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2840" y="3965040"/>
            <a:ext cx="2869920" cy="215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08BE0-967F-4337-84D7-F4BE61B6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9A56B4-41AA-48FA-9413-B1FC3227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40B9C-04C2-4EC2-A61F-031B2988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3E9BF-4EB5-4E32-8EB1-F8075132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FA69736-51E0-4628-8CD5-0E0135ADCF8E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2EAA605-9797-4B4E-BD2B-1318AF433519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F6F8289-873D-4BC6-9C99-E2F4AC205EEF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A5E662A-15E6-49E2-8AB2-C87615ECFA3B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78EFA61-C580-4494-940C-C53359CA631B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29AB213-FD85-4D2E-935C-147698F71D06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81FB9E35-F290-44FF-A45B-2A5694EEB39D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0D5243D8-F95A-464A-8444-7A688BDE09C3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F2ECFB1-CEEE-4141-9582-B7B1BA919C7F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D5195845-15F9-4473-9A28-A1990025991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1A96957-518E-46B0-B961-4680B2A92238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3039BA1-439D-4146-A3F6-E8862D60EEDD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C57DA71-9BAA-4B2F-B454-835ED1557D8A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0C10BC9-0043-4CDC-8493-7C1C02794BAD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C18D325-A208-4BA8-B397-46D9923B54ED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89BD873-D9EE-4D59-A775-23C4F8C1A609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A6822D9-6E98-435F-8110-EBDB78BA4404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3CD9D46-81EC-4804-AF96-56186240327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4706CA7-2C29-4B57-A55F-412B8FF049F0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9AE0409-61E4-4014-A29F-2652C6917450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13322B6-E7C2-4C62-8D8F-D24644F2D668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F755C167-451D-4782-A3C7-8608E1751EFC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1F01ADD-DF78-4C4E-AA37-5B5E77F5C194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A0078E2-4AA0-45F6-829C-85BC46F43909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95360" y="1599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5560" indent="-238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4A877E63-F26F-421D-A940-EE31C6C11E8C}" type="datetime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357960"/>
            <a:ext cx="313524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lstStyle>
            <a:lvl1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  <a:defRPr b="0" lang="ru-RU" sz="13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DD72983-E118-49DD-A153-911C1F3AE67F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Схема 2" descr=""/>
          <p:cNvPicPr/>
          <p:nvPr/>
        </p:nvPicPr>
        <p:blipFill>
          <a:blip r:embed="rId1"/>
          <a:stretch/>
        </p:blipFill>
        <p:spPr>
          <a:xfrm>
            <a:off x="487440" y="1974960"/>
            <a:ext cx="9070920" cy="3054240"/>
          </a:xfrm>
          <a:prstGeom prst="rect">
            <a:avLst/>
          </a:prstGeom>
          <a:ln w="0">
            <a:noFill/>
          </a:ln>
        </p:spPr>
      </p:pic>
      <p:grpSp>
        <p:nvGrpSpPr>
          <p:cNvPr id="541" name="Группа 10"/>
          <p:cNvGrpSpPr/>
          <p:nvPr/>
        </p:nvGrpSpPr>
        <p:grpSpPr>
          <a:xfrm>
            <a:off x="235080" y="0"/>
            <a:ext cx="9434520" cy="1357200"/>
            <a:chOff x="235080" y="0"/>
            <a:chExt cx="9434520" cy="1357200"/>
          </a:xfrm>
        </p:grpSpPr>
        <p:pic>
          <p:nvPicPr>
            <p:cNvPr id="542" name="Picture 3" descr=""/>
            <p:cNvPicPr/>
            <p:nvPr/>
          </p:nvPicPr>
          <p:blipFill>
            <a:blip r:embed="rId2"/>
            <a:stretch/>
          </p:blipFill>
          <p:spPr>
            <a:xfrm>
              <a:off x="235080" y="0"/>
              <a:ext cx="9434520" cy="13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Picture 6" descr="E:\UDC\Конференція суддів\Untitled-1.gif"/>
            <p:cNvPicPr/>
            <p:nvPr/>
          </p:nvPicPr>
          <p:blipFill>
            <a:blip r:embed="rId3"/>
            <a:stretch/>
          </p:blipFill>
          <p:spPr>
            <a:xfrm>
              <a:off x="665280" y="271440"/>
              <a:ext cx="539640" cy="74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54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45" name="Picture 3" descr=""/>
            <p:cNvPicPr/>
            <p:nvPr/>
          </p:nvPicPr>
          <p:blipFill>
            <a:blip r:embed="rId4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6" name="Picture 6" descr="E:\UDC\Конференція суддів\Untitled-1.gif"/>
            <p:cNvPicPr/>
            <p:nvPr/>
          </p:nvPicPr>
          <p:blipFill>
            <a:blip r:embed="rId5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47" name="Нижний колонтитул 3"/>
          <p:cNvSpPr/>
          <p:nvPr/>
        </p:nvSpPr>
        <p:spPr>
          <a:xfrm>
            <a:off x="1352520" y="360360"/>
            <a:ext cx="8553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осударственная судебная администрация Укра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5F93BF2B-8949-4784-BA53-81B0ED29F08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Группа 10"/>
          <p:cNvGrpSpPr/>
          <p:nvPr/>
        </p:nvGrpSpPr>
        <p:grpSpPr>
          <a:xfrm>
            <a:off x="0" y="0"/>
            <a:ext cx="9904320" cy="1224000"/>
            <a:chOff x="0" y="0"/>
            <a:chExt cx="9904320" cy="1224000"/>
          </a:xfrm>
        </p:grpSpPr>
        <p:pic>
          <p:nvPicPr>
            <p:cNvPr id="652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4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4440"/>
              <a:ext cx="566640" cy="673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54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Прямоугольник 12"/>
          <p:cNvSpPr/>
          <p:nvPr/>
        </p:nvSpPr>
        <p:spPr>
          <a:xfrm>
            <a:off x="1305000" y="12528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бочая группа по вопросам инновац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95360" y="1248840"/>
            <a:ext cx="8913600" cy="452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8120" indent="-348120" algn="ctr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работка стандартов функционирования суда </a:t>
            </a: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проект «Совершенный суд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(Азиатско-Тихоокеанская судебная конференция, Сингапур, октябрь 2010 г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Внешняя и внутренняя оценка деятельности суда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карточки гражданского опроса – более 7 500 анк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работка стратегического плана развития судебной систем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Развитие информационных технологий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 algn="ctr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100" spc="-1" strike="noStrike">
                <a:solidFill>
                  <a:srgbClr val="0070c0"/>
                </a:solidFill>
                <a:latin typeface="Times New Roman"/>
              </a:rPr>
              <a:t>Создание концепции коммуникационной политики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8120" indent="-348120">
              <a:spcBef>
                <a:spcPts val="774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58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79080" y="166320"/>
            <a:ext cx="8626680" cy="1019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Разработка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тратегического плана развития судебной системы Укра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Объект 2" descr=""/>
          <p:cNvPicPr/>
          <p:nvPr/>
        </p:nvPicPr>
        <p:blipFill>
          <a:blip r:embed="rId3"/>
          <a:stretch/>
        </p:blipFill>
        <p:spPr>
          <a:xfrm>
            <a:off x="633240" y="1536840"/>
            <a:ext cx="8669520" cy="4778280"/>
          </a:xfrm>
          <a:prstGeom prst="rect">
            <a:avLst/>
          </a:prstGeom>
          <a:ln w="0">
            <a:noFill/>
          </a:ln>
        </p:spPr>
      </p:pic>
      <p:sp>
        <p:nvSpPr>
          <p:cNvPr id="662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7A3838CA-DBE6-4F1F-BCEA-4507985C0D3C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Picture 10" descr=""/>
          <p:cNvPicPr/>
          <p:nvPr/>
        </p:nvPicPr>
        <p:blipFill>
          <a:blip r:embed="rId4"/>
          <a:stretch/>
        </p:blipFill>
        <p:spPr>
          <a:xfrm>
            <a:off x="452520" y="1434960"/>
            <a:ext cx="2916000" cy="1943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"/>
          <p:cNvPicPr/>
          <p:nvPr/>
        </p:nvPicPr>
        <p:blipFill>
          <a:blip r:embed="rId5"/>
          <a:stretch/>
        </p:blipFill>
        <p:spPr>
          <a:xfrm>
            <a:off x="6535800" y="4373640"/>
            <a:ext cx="2768400" cy="1879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4" descr=""/>
          <p:cNvPicPr/>
          <p:nvPr/>
        </p:nvPicPr>
        <p:blipFill>
          <a:blip r:embed="rId1"/>
          <a:stretch/>
        </p:blipFill>
        <p:spPr>
          <a:xfrm>
            <a:off x="3727440" y="2541600"/>
            <a:ext cx="2521080" cy="2901960"/>
          </a:xfrm>
          <a:prstGeom prst="rect">
            <a:avLst/>
          </a:prstGeom>
          <a:ln w="0">
            <a:noFill/>
          </a:ln>
        </p:spPr>
      </p:pic>
      <p:sp>
        <p:nvSpPr>
          <p:cNvPr id="666" name="Номер слайда 2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E4EAC968-5888-498A-872A-3150E809CCEE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2"/>
          <a:stretch/>
        </p:blipFill>
        <p:spPr>
          <a:xfrm>
            <a:off x="-3240" y="0"/>
            <a:ext cx="9907560" cy="1469880"/>
          </a:xfrm>
          <a:prstGeom prst="rect">
            <a:avLst/>
          </a:prstGeom>
          <a:ln w="0">
            <a:noFill/>
          </a:ln>
        </p:spPr>
      </p:pic>
      <p:sp>
        <p:nvSpPr>
          <p:cNvPr id="668" name="Заголовок 1"/>
          <p:cNvSpPr/>
          <p:nvPr/>
        </p:nvSpPr>
        <p:spPr>
          <a:xfrm>
            <a:off x="1352520" y="189000"/>
            <a:ext cx="855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Международная конференция, приуроченная к десятилетию Государственной судебной администрации Укра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Прямоугольник 13"/>
          <p:cNvSpPr/>
          <p:nvPr/>
        </p:nvSpPr>
        <p:spPr>
          <a:xfrm>
            <a:off x="3511440" y="3409920"/>
            <a:ext cx="264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Прямоугольник 1" descr=""/>
          <p:cNvPicPr/>
          <p:nvPr/>
        </p:nvPicPr>
        <p:blipFill>
          <a:blip r:embed="rId3"/>
          <a:stretch/>
        </p:blipFill>
        <p:spPr>
          <a:xfrm>
            <a:off x="1262160" y="5589720"/>
            <a:ext cx="7381800" cy="585720"/>
          </a:xfrm>
          <a:prstGeom prst="rect">
            <a:avLst/>
          </a:prstGeom>
          <a:ln w="0">
            <a:noFill/>
          </a:ln>
        </p:spPr>
      </p:pic>
      <p:pic>
        <p:nvPicPr>
          <p:cNvPr id="671" name="Прямоугольник 7" descr=""/>
          <p:cNvPicPr/>
          <p:nvPr/>
        </p:nvPicPr>
        <p:blipFill>
          <a:blip r:embed="rId4"/>
          <a:stretch/>
        </p:blipFill>
        <p:spPr>
          <a:xfrm>
            <a:off x="3730680" y="1700280"/>
            <a:ext cx="305424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49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51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6AB2BF08-241A-4966-BED5-210EEC84333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Прямоугольник 12"/>
          <p:cNvSpPr/>
          <p:nvPr/>
        </p:nvSpPr>
        <p:spPr>
          <a:xfrm>
            <a:off x="1305000" y="12456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У к р а и н а</a:t>
            </a: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Box 2"/>
          <p:cNvSpPr/>
          <p:nvPr/>
        </p:nvSpPr>
        <p:spPr>
          <a:xfrm>
            <a:off x="2113200" y="2540160"/>
            <a:ext cx="3202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арта + інформація про державу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1"/>
          <p:cNvSpPr/>
          <p:nvPr/>
        </p:nvSpPr>
        <p:spPr>
          <a:xfrm>
            <a:off x="5672160" y="1400040"/>
            <a:ext cx="410508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Население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45,6 миллиона (28-е в мире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Территория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1700" spc="-1" strike="noStrike">
                <a:solidFill>
                  <a:srgbClr val="0070c0"/>
                </a:solidFill>
                <a:latin typeface="Times New Roman"/>
              </a:rPr>
              <a:t>45-я в мире (603 628 км² 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uk-UA" sz="1700" spc="-1" strike="noStrike">
                <a:solidFill>
                  <a:srgbClr val="0070c0"/>
                </a:solidFill>
                <a:latin typeface="Times New Roman"/>
              </a:rPr>
              <a:t>5,7% территории Европы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судов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Times New Roman"/>
              </a:rPr>
              <a:t>7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судей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8,7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работников аппаратов судов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32,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Количество дел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1700" spc="-1" strike="noStrike">
                <a:solidFill>
                  <a:srgbClr val="0070c0"/>
                </a:solidFill>
                <a:latin typeface="Times New Roman"/>
              </a:rPr>
              <a:t>9,4 миллиона (201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3"/>
          <a:stretch/>
        </p:blipFill>
        <p:spPr>
          <a:xfrm>
            <a:off x="0" y="1392120"/>
            <a:ext cx="5467320" cy="5467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559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61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CBB9D5F8-CBE4-49E2-ABED-CD8C00A2BC28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Прямоугольник 12"/>
          <p:cNvSpPr/>
          <p:nvPr/>
        </p:nvSpPr>
        <p:spPr>
          <a:xfrm>
            <a:off x="1305000" y="12456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истема судов общей юрисдикции в Укра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8"/>
          <p:cNvSpPr/>
          <p:nvPr/>
        </p:nvSpPr>
        <p:spPr>
          <a:xfrm>
            <a:off x="152280" y="152280"/>
            <a:ext cx="9904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"/>
          <p:cNvGrpSpPr/>
          <p:nvPr/>
        </p:nvGrpSpPr>
        <p:grpSpPr>
          <a:xfrm>
            <a:off x="152280" y="1701720"/>
            <a:ext cx="9464760" cy="5257800"/>
            <a:chOff x="152280" y="1701720"/>
            <a:chExt cx="9464760" cy="5257800"/>
          </a:xfrm>
        </p:grpSpPr>
        <p:sp>
          <p:nvSpPr>
            <p:cNvPr id="566" name="AutoShape 37"/>
            <p:cNvSpPr/>
            <p:nvPr/>
          </p:nvSpPr>
          <p:spPr>
            <a:xfrm>
              <a:off x="152280" y="1701720"/>
              <a:ext cx="9464760" cy="52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36"/>
            <p:cNvSpPr/>
            <p:nvPr/>
          </p:nvSpPr>
          <p:spPr>
            <a:xfrm>
              <a:off x="3299040" y="1701720"/>
              <a:ext cx="2971080" cy="457560"/>
            </a:xfrm>
            <a:prstGeom prst="flowChartProcess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eeece1"/>
                  </a:solidFill>
                  <a:latin typeface="Times New Roman"/>
                  <a:ea typeface="Times New Roman"/>
                </a:rPr>
                <a:t>Верховный Cуд Украин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AutoShape 35"/>
            <p:cNvSpPr/>
            <p:nvPr/>
          </p:nvSpPr>
          <p:spPr>
            <a:xfrm>
              <a:off x="556200" y="2541960"/>
              <a:ext cx="2628360" cy="874080"/>
            </a:xfrm>
            <a:prstGeom prst="flowChartProcess">
              <a:avLst/>
            </a:prstGeom>
            <a:solidFill>
              <a:srgbClr val="548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хозяйственный суд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utoShape 34"/>
            <p:cNvSpPr/>
            <p:nvPr/>
          </p:nvSpPr>
          <p:spPr>
            <a:xfrm>
              <a:off x="556200" y="3759120"/>
              <a:ext cx="2628360" cy="685440"/>
            </a:xfrm>
            <a:prstGeom prst="flowChartProcess">
              <a:avLst/>
            </a:prstGeom>
            <a:solidFill>
              <a:srgbClr val="6fa0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хозяйствен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8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30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AutoShape 33"/>
            <p:cNvSpPr/>
            <p:nvPr/>
          </p:nvSpPr>
          <p:spPr>
            <a:xfrm>
              <a:off x="556200" y="4788000"/>
              <a:ext cx="2628360" cy="685440"/>
            </a:xfrm>
            <a:prstGeom prst="flowChartProcess">
              <a:avLst/>
            </a:prstGeom>
            <a:solidFill>
              <a:srgbClr val="8ab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озяйствен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76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32"/>
            <p:cNvSpPr/>
            <p:nvPr/>
          </p:nvSpPr>
          <p:spPr>
            <a:xfrm>
              <a:off x="6499440" y="2541960"/>
              <a:ext cx="2857680" cy="874080"/>
            </a:xfrm>
            <a:prstGeom prst="flowChartProcess">
              <a:avLst/>
            </a:prstGeom>
            <a:solidFill>
              <a:srgbClr val="318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административный суд Украин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31"/>
            <p:cNvSpPr/>
            <p:nvPr/>
          </p:nvSpPr>
          <p:spPr>
            <a:xfrm>
              <a:off x="6499440" y="3759120"/>
              <a:ext cx="2857680" cy="685440"/>
            </a:xfrm>
            <a:prstGeom prst="flowChartProcess">
              <a:avLst/>
            </a:prstGeom>
            <a:solidFill>
              <a:srgbClr val="3ea6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административ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9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40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30"/>
            <p:cNvSpPr/>
            <p:nvPr/>
          </p:nvSpPr>
          <p:spPr>
            <a:xfrm>
              <a:off x="6499440" y="4788000"/>
              <a:ext cx="2857680" cy="685440"/>
            </a:xfrm>
            <a:prstGeom prst="flowChartProcess">
              <a:avLst/>
            </a:prstGeom>
            <a:solidFill>
              <a:srgbClr val="5fb5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Окружные административны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67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29"/>
            <p:cNvSpPr/>
            <p:nvPr/>
          </p:nvSpPr>
          <p:spPr>
            <a:xfrm>
              <a:off x="3527280" y="2541960"/>
              <a:ext cx="2629440" cy="858240"/>
            </a:xfrm>
            <a:prstGeom prst="flowChartProcess">
              <a:avLst/>
            </a:prstGeom>
            <a:solidFill>
              <a:srgbClr val="7692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ысший специализированный суд Украины по рассмотрению гражданских и уголовных</a:t>
              </a:r>
              <a:r>
                <a:rPr b="1" lang="uk-UA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де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28"/>
            <p:cNvSpPr/>
            <p:nvPr/>
          </p:nvSpPr>
          <p:spPr>
            <a:xfrm>
              <a:off x="3528360" y="3759120"/>
              <a:ext cx="2628360" cy="686160"/>
            </a:xfrm>
            <a:prstGeom prst="flowChartProcess">
              <a:avLst/>
            </a:prstGeom>
            <a:solidFill>
              <a:srgbClr val="95b7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пелляционные общи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27</a:t>
              </a:r>
              <a:r>
                <a:rPr b="1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172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7"/>
            <p:cNvSpPr/>
            <p:nvPr/>
          </p:nvSpPr>
          <p:spPr>
            <a:xfrm>
              <a:off x="3527280" y="4788000"/>
              <a:ext cx="2628720" cy="685440"/>
            </a:xfrm>
            <a:prstGeom prst="flowChartProcess">
              <a:avLst/>
            </a:prstGeom>
            <a:solidFill>
              <a:srgbClr val="a7c3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стные общие суды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ы: 666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удьи</a:t>
              </a:r>
              <a:r>
                <a:rPr b="0" lang="uk-UA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 48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7" name="AutoShape 12"/>
            <p:cNvCxnSpPr/>
            <p:nvPr/>
          </p:nvCxnSpPr>
          <p:spPr>
            <a:xfrm flipH="1">
              <a:off x="1809360" y="1929240"/>
              <a:ext cx="4680" cy="61308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</a:ln>
          </p:spPr>
        </p:cxnSp>
        <p:cxnSp>
          <p:nvCxnSpPr>
            <p:cNvPr id="578" name="AutoShape 11"/>
            <p:cNvCxnSpPr/>
            <p:nvPr/>
          </p:nvCxnSpPr>
          <p:spPr>
            <a:xfrm flipV="1">
              <a:off x="1811160" y="3416040"/>
              <a:ext cx="1440" cy="33336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579" name="AutoShape 10"/>
            <p:cNvCxnSpPr/>
            <p:nvPr/>
          </p:nvCxnSpPr>
          <p:spPr>
            <a:xfrm flipV="1">
              <a:off x="1811880" y="4452840"/>
              <a:ext cx="2160" cy="32508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grpSp>
          <p:nvGrpSpPr>
            <p:cNvPr id="580" name=""/>
            <p:cNvGrpSpPr/>
            <p:nvPr/>
          </p:nvGrpSpPr>
          <p:grpSpPr>
            <a:xfrm>
              <a:off x="4787640" y="3415680"/>
              <a:ext cx="1800" cy="324000"/>
              <a:chOff x="4787640" y="3415680"/>
              <a:chExt cx="1800" cy="324000"/>
            </a:xfrm>
          </p:grpSpPr>
          <p:cxnSp>
            <p:nvCxnSpPr>
              <p:cNvPr id="581" name="AutoShape 9"/>
              <p:cNvCxnSpPr/>
              <p:nvPr/>
            </p:nvCxnSpPr>
            <p:spPr>
              <a:xfrm flipV="1">
                <a:off x="4787640" y="3415680"/>
                <a:ext cx="216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82" name=""/>
              <p:cNvSpPr txBox="1"/>
              <p:nvPr/>
            </p:nvSpPr>
            <p:spPr>
              <a:xfrm rot="10800000">
                <a:off x="4787640" y="3415680"/>
                <a:ext cx="144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788720" y="4443840"/>
              <a:ext cx="1080" cy="324000"/>
              <a:chOff x="4788720" y="4443840"/>
              <a:chExt cx="1080" cy="324000"/>
            </a:xfrm>
          </p:grpSpPr>
          <p:cxnSp>
            <p:nvCxnSpPr>
              <p:cNvPr id="584" name="AutoShape 8"/>
              <p:cNvCxnSpPr/>
              <p:nvPr/>
            </p:nvCxnSpPr>
            <p:spPr>
              <a:xfrm flipV="1">
                <a:off x="4789080" y="4443840"/>
                <a:ext cx="108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85" name=""/>
              <p:cNvSpPr txBox="1"/>
              <p:nvPr/>
            </p:nvSpPr>
            <p:spPr>
              <a:xfrm rot="10800000">
                <a:off x="4788720" y="4443840"/>
                <a:ext cx="36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6" name="AutoShape 7"/>
            <p:cNvCxnSpPr/>
            <p:nvPr/>
          </p:nvCxnSpPr>
          <p:spPr>
            <a:xfrm flipV="1">
              <a:off x="7986600" y="3415680"/>
              <a:ext cx="1440" cy="324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cxnSp>
          <p:nvCxnSpPr>
            <p:cNvPr id="587" name="AutoShape 6"/>
            <p:cNvCxnSpPr/>
            <p:nvPr/>
          </p:nvCxnSpPr>
          <p:spPr>
            <a:xfrm flipV="1">
              <a:off x="7984800" y="4463280"/>
              <a:ext cx="1440" cy="324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grpSp>
          <p:nvGrpSpPr>
            <p:cNvPr id="588" name=""/>
            <p:cNvGrpSpPr/>
            <p:nvPr/>
          </p:nvGrpSpPr>
          <p:grpSpPr>
            <a:xfrm>
              <a:off x="4789440" y="2158560"/>
              <a:ext cx="1800" cy="324000"/>
              <a:chOff x="4789440" y="2158560"/>
              <a:chExt cx="1800" cy="324000"/>
            </a:xfrm>
          </p:grpSpPr>
          <p:cxnSp>
            <p:nvCxnSpPr>
              <p:cNvPr id="589" name="AutoShape 5"/>
              <p:cNvCxnSpPr/>
              <p:nvPr/>
            </p:nvCxnSpPr>
            <p:spPr>
              <a:xfrm flipV="1">
                <a:off x="4789440" y="2158560"/>
                <a:ext cx="2160" cy="324360"/>
              </a:xfrm>
              <a:prstGeom prst="straightConnector1">
                <a:avLst/>
              </a:prstGeom>
              <a:ln w="28440">
                <a:solidFill>
                  <a:srgbClr val="77933c"/>
                </a:solidFill>
                <a:miter/>
                <a:tailEnd len="med" type="triangle" w="med"/>
              </a:ln>
            </p:spPr>
          </p:cxnSp>
          <p:sp>
            <p:nvSpPr>
              <p:cNvPr id="590" name=""/>
              <p:cNvSpPr txBox="1"/>
              <p:nvPr/>
            </p:nvSpPr>
            <p:spPr>
              <a:xfrm rot="10800000">
                <a:off x="4789440" y="2158560"/>
                <a:ext cx="1440" cy="3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885960"/>
                    <a:tab algn="l" pos="1771560"/>
                    <a:tab algn="l" pos="2657520"/>
                    <a:tab algn="l" pos="3543480"/>
                    <a:tab algn="l" pos="4429080"/>
                    <a:tab algn="l" pos="5315040"/>
                    <a:tab algn="l" pos="6200640"/>
                    <a:tab algn="l" pos="7086600"/>
                    <a:tab algn="l" pos="7972560"/>
                    <a:tab algn="l" pos="8858160"/>
                    <a:tab algn="l" pos="9744120"/>
                    <a:tab algn="l" pos="106300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1" name="AutoShape 4"/>
            <p:cNvCxnSpPr/>
            <p:nvPr/>
          </p:nvCxnSpPr>
          <p:spPr>
            <a:xfrm>
              <a:off x="1814040" y="1929600"/>
              <a:ext cx="1485360" cy="2160"/>
            </a:xfrm>
            <a:prstGeom prst="straightConnector1">
              <a:avLst/>
            </a:prstGeom>
            <a:ln w="2844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592" name="AutoShape 3"/>
            <p:cNvCxnSpPr/>
            <p:nvPr/>
          </p:nvCxnSpPr>
          <p:spPr>
            <a:xfrm flipH="1">
              <a:off x="6269760" y="1929600"/>
              <a:ext cx="1711080" cy="21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  <a:tailEnd len="med" type="triangle" w="med"/>
            </a:ln>
          </p:spPr>
        </p:cxnSp>
        <p:cxnSp>
          <p:nvCxnSpPr>
            <p:cNvPr id="593" name="AutoShape 2"/>
            <p:cNvCxnSpPr/>
            <p:nvPr/>
          </p:nvCxnSpPr>
          <p:spPr>
            <a:xfrm flipH="1">
              <a:off x="7980480" y="1929960"/>
              <a:ext cx="7200" cy="612360"/>
            </a:xfrm>
            <a:prstGeom prst="straightConnector1">
              <a:avLst/>
            </a:prstGeom>
            <a:ln w="28440">
              <a:solidFill>
                <a:srgbClr val="31849b"/>
              </a:solidFill>
              <a:miter/>
            </a:ln>
          </p:spPr>
        </p:cxn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Прямоугольник 39"/>
          <p:cNvSpPr/>
          <p:nvPr/>
        </p:nvSpPr>
        <p:spPr>
          <a:xfrm>
            <a:off x="495360" y="1600200"/>
            <a:ext cx="891360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B9E725E1-2294-4B84-9215-DD544B95EA1A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Группа 10"/>
          <p:cNvGrpSpPr/>
          <p:nvPr/>
        </p:nvGrpSpPr>
        <p:grpSpPr>
          <a:xfrm>
            <a:off x="0" y="0"/>
            <a:ext cx="9904320" cy="1224000"/>
            <a:chOff x="0" y="0"/>
            <a:chExt cx="9904320" cy="1224000"/>
          </a:xfrm>
        </p:grpSpPr>
        <p:pic>
          <p:nvPicPr>
            <p:cNvPr id="597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43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4440"/>
              <a:ext cx="566640" cy="673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599" name="Прямоугольник 14"/>
          <p:cNvSpPr/>
          <p:nvPr/>
        </p:nvSpPr>
        <p:spPr>
          <a:xfrm>
            <a:off x="1306440" y="0"/>
            <a:ext cx="859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Прямоугольник 12"/>
          <p:cNvSpPr/>
          <p:nvPr/>
        </p:nvSpPr>
        <p:spPr>
          <a:xfrm>
            <a:off x="1305000" y="125280"/>
            <a:ext cx="8601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Основные проблемы в обеспечении деятельности су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95000" y="1846440"/>
            <a:ext cx="8932680" cy="4032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</a:rPr>
              <a:t>Дефицит финансовых ресурс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uk-UA" sz="3600" spc="-1" strike="noStrike">
                <a:solidFill>
                  <a:srgbClr val="0070c0"/>
                </a:solidFill>
                <a:latin typeface="Times New Roman"/>
              </a:rPr>
              <a:t>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заработная плата работников аппаратов судо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текущие расходы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     </a:t>
            </a:r>
            <a:r>
              <a:rPr b="0" i="1" lang="uk-UA" sz="2000" spc="-1" strike="noStrike">
                <a:solidFill>
                  <a:srgbClr val="7f7f7f"/>
                </a:solidFill>
                <a:latin typeface="Times New Roman"/>
              </a:rPr>
              <a:t>капитальные расх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Перегруженность судей и работников суд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 algn="ctr">
              <a:spcBef>
                <a:spcPts val="4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около 120 дел в месяц на судью в 2011 г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36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uk-UA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31800" y="1599840"/>
            <a:ext cx="8640720" cy="4660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8920" indent="-358920"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ru-RU" sz="2000" spc="-1" strike="noStrike">
                <a:solidFill>
                  <a:srgbClr val="7f7f7f"/>
                </a:solidFill>
                <a:latin typeface="Times New Roman"/>
              </a:rPr>
              <a:t>Закон Украины "О судоустройстве и статусе судей" от 7 июля 2010 года</a:t>
            </a:r>
            <a:br>
              <a:rPr sz="2000"/>
            </a:br>
            <a:r>
              <a:rPr b="1" i="1" lang="ru-RU" sz="20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Номер слайда 4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A008E922-7AE3-4AD3-8F81-3CA2D195A1C7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06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08" name="Прямоугольник 14"/>
          <p:cNvSpPr/>
          <p:nvPr/>
        </p:nvSpPr>
        <p:spPr>
          <a:xfrm>
            <a:off x="1306440" y="34920"/>
            <a:ext cx="85978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арантии финансирования судебной системы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Прямоугольник 13"/>
          <p:cNvSpPr/>
          <p:nvPr/>
        </p:nvSpPr>
        <p:spPr>
          <a:xfrm>
            <a:off x="7101000" y="2709720"/>
            <a:ext cx="2315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сходы на содержание каждого суда определяются в Законе о Государственном бюджете</a:t>
            </a:r>
            <a:r>
              <a:rPr b="1" lang="ru-RU" sz="1600" spc="-1" strike="noStrike">
                <a:solidFill>
                  <a:srgbClr val="4b4b4b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92520" y="5429160"/>
            <a:ext cx="431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сходы на судебную систему не могут сокращаться в течение текущего финансового г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оугольник 1"/>
          <p:cNvSpPr/>
          <p:nvPr/>
        </p:nvSpPr>
        <p:spPr>
          <a:xfrm>
            <a:off x="631800" y="270972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 algn="ctr">
              <a:spcBef>
                <a:spcPts val="400"/>
              </a:spcBef>
              <a:buClr>
                <a:srgbClr val="4f81bd"/>
              </a:buClr>
              <a:buFont typeface="Wingdings" charset="2"/>
              <a:buChar char="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Times New Roman"/>
              </a:rPr>
              <a:t>Размер судейского вознаграждения закреплен на уровне зак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3"/>
          <a:stretch/>
        </p:blipFill>
        <p:spPr>
          <a:xfrm>
            <a:off x="3048120" y="2882880"/>
            <a:ext cx="3760560" cy="205416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9"/>
          <p:cNvSpPr/>
          <p:nvPr/>
        </p:nvSpPr>
        <p:spPr>
          <a:xfrm>
            <a:off x="781200" y="4095000"/>
            <a:ext cx="208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1360" indent="-171360" algn="ctr">
              <a:buClr>
                <a:srgbClr val="7f7f7f"/>
              </a:buClr>
              <a:buFont typeface="Wingdings" charset="2"/>
              <a:buChar char="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Times New Roman"/>
              </a:rPr>
              <a:t>в 2012  году увеличилс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ru-RU" sz="1000" spc="-1" strike="noStrike">
                <a:solidFill>
                  <a:srgbClr val="7f7f7f"/>
                </a:solidFill>
                <a:latin typeface="Times New Roman"/>
              </a:rPr>
              <a:t>в 2,4 раз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Группа 10"/>
          <p:cNvGrpSpPr/>
          <p:nvPr/>
        </p:nvGrpSpPr>
        <p:grpSpPr>
          <a:xfrm>
            <a:off x="0" y="0"/>
            <a:ext cx="9906120" cy="1428840"/>
            <a:chOff x="0" y="0"/>
            <a:chExt cx="9906120" cy="1428840"/>
          </a:xfrm>
        </p:grpSpPr>
        <p:pic>
          <p:nvPicPr>
            <p:cNvPr id="615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0"/>
              <a:ext cx="99061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52160" y="0"/>
            <a:ext cx="8551800" cy="1270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Гарантии финансирования судеб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9FD64E85-4164-4A66-9AAA-0BDBC5DA37B0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Объект 14" descr=""/>
          <p:cNvPicPr/>
          <p:nvPr/>
        </p:nvPicPr>
        <p:blipFill>
          <a:blip r:embed="rId3"/>
          <a:stretch/>
        </p:blipFill>
        <p:spPr>
          <a:xfrm>
            <a:off x="4230720" y="1951200"/>
            <a:ext cx="4376880" cy="4430520"/>
          </a:xfrm>
          <a:prstGeom prst="rect">
            <a:avLst/>
          </a:prstGeom>
          <a:ln w="0">
            <a:noFill/>
          </a:ln>
        </p:spPr>
      </p:pic>
      <p:sp>
        <p:nvSpPr>
          <p:cNvPr id="620" name="Прямоугольник 15"/>
          <p:cNvSpPr/>
          <p:nvPr/>
        </p:nvSpPr>
        <p:spPr>
          <a:xfrm>
            <a:off x="1352520" y="1411200"/>
            <a:ext cx="719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Wingdings" charset="2"/>
              <a:buChar char="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Times New Roman"/>
              </a:rPr>
              <a:t>Закон Украины "О судебном сборе" от 8 июля 2011 года</a:t>
            </a:r>
            <a:br>
              <a:rPr sz="2000"/>
            </a:br>
            <a:r>
              <a:rPr b="0" lang="ru-RU" sz="2000" spc="-1" strike="noStrike">
                <a:solidFill>
                  <a:srgbClr val="7f7f7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Диаграмма 17" descr=""/>
          <p:cNvPicPr/>
          <p:nvPr/>
        </p:nvPicPr>
        <p:blipFill>
          <a:blip r:embed="rId4"/>
          <a:stretch/>
        </p:blipFill>
        <p:spPr>
          <a:xfrm>
            <a:off x="725400" y="2227320"/>
            <a:ext cx="4565880" cy="2477880"/>
          </a:xfrm>
          <a:prstGeom prst="rect">
            <a:avLst/>
          </a:prstGeom>
          <a:ln w="0">
            <a:noFill/>
          </a:ln>
        </p:spPr>
      </p:pic>
      <p:sp>
        <p:nvSpPr>
          <p:cNvPr id="622" name="Прямоугольник 16"/>
          <p:cNvSpPr/>
          <p:nvPr/>
        </p:nvSpPr>
        <p:spPr>
          <a:xfrm>
            <a:off x="1135080" y="4581360"/>
            <a:ext cx="403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Times New Roman"/>
              </a:rPr>
              <a:t>Размер бюджета судебной власти увеличился в 1,5 раза и составляет в 2012 году около 500 млн. </a:t>
            </a:r>
            <a:r>
              <a:rPr b="0" lang="en-US" sz="1200" spc="-1" strike="noStrike">
                <a:solidFill>
                  <a:srgbClr val="7f7f7f"/>
                </a:solidFill>
                <a:latin typeface="Times New Roman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Группа 10"/>
          <p:cNvGrpSpPr/>
          <p:nvPr/>
        </p:nvGrpSpPr>
        <p:grpSpPr>
          <a:xfrm>
            <a:off x="3240" y="0"/>
            <a:ext cx="9905760" cy="1428840"/>
            <a:chOff x="3240" y="0"/>
            <a:chExt cx="9905760" cy="1428840"/>
          </a:xfrm>
        </p:grpSpPr>
        <p:pic>
          <p:nvPicPr>
            <p:cNvPr id="624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3240" y="0"/>
              <a:ext cx="99057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5400" y="285480"/>
              <a:ext cx="566640" cy="7858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52160" y="135000"/>
            <a:ext cx="8551800" cy="1010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Verdana"/>
              </a:rPr>
              <a:t>Гарантии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финансирования судебной системы нуждаются в усилени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Объект 3" descr=""/>
          <p:cNvPicPr/>
          <p:nvPr/>
        </p:nvPicPr>
        <p:blipFill>
          <a:blip r:embed="rId3"/>
          <a:stretch/>
        </p:blipFill>
        <p:spPr>
          <a:xfrm>
            <a:off x="457200" y="1414440"/>
            <a:ext cx="8997840" cy="4827600"/>
          </a:xfrm>
          <a:prstGeom prst="rect">
            <a:avLst/>
          </a:prstGeom>
          <a:ln w="0">
            <a:noFill/>
          </a:ln>
        </p:spPr>
      </p:pic>
      <p:sp>
        <p:nvSpPr>
          <p:cNvPr id="628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3123387D-A3F9-4646-B1E8-1A79DDC04330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Прямоугольник 4"/>
          <p:cNvSpPr/>
          <p:nvPr/>
        </p:nvSpPr>
        <p:spPr>
          <a:xfrm>
            <a:off x="704880" y="2044800"/>
            <a:ext cx="28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Wingdings" charset="2"/>
              <a:buChar char="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Times New Roman"/>
              </a:rPr>
              <a:t>Разработаны проек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Объект 14" descr=""/>
          <p:cNvPicPr/>
          <p:nvPr/>
        </p:nvPicPr>
        <p:blipFill>
          <a:blip r:embed="rId1"/>
          <a:stretch/>
        </p:blipFill>
        <p:spPr>
          <a:xfrm>
            <a:off x="-1023840" y="1590840"/>
            <a:ext cx="12026880" cy="38653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rcRect l="15971" t="0" r="43692" b="0"/>
          <a:stretch/>
        </p:blipFill>
        <p:spPr>
          <a:xfrm>
            <a:off x="7327800" y="1701720"/>
            <a:ext cx="21970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632" name="Группа 10"/>
          <p:cNvGrpSpPr/>
          <p:nvPr/>
        </p:nvGrpSpPr>
        <p:grpSpPr>
          <a:xfrm>
            <a:off x="0" y="-36360"/>
            <a:ext cx="9906120" cy="1428480"/>
            <a:chOff x="0" y="-36360"/>
            <a:chExt cx="9906120" cy="1428480"/>
          </a:xfrm>
        </p:grpSpPr>
        <p:pic>
          <p:nvPicPr>
            <p:cNvPr id="633" name="Picture 3" descr=""/>
            <p:cNvPicPr/>
            <p:nvPr/>
          </p:nvPicPr>
          <p:blipFill>
            <a:blip r:embed="rId3"/>
            <a:stretch/>
          </p:blipFill>
          <p:spPr>
            <a:xfrm>
              <a:off x="0" y="-36360"/>
              <a:ext cx="9906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6" descr="E:\UDC\Конференція суддів\Untitled-1.gif"/>
            <p:cNvPicPr/>
            <p:nvPr/>
          </p:nvPicPr>
          <p:blipFill>
            <a:blip r:embed="rId4"/>
            <a:stretch/>
          </p:blipFill>
          <p:spPr>
            <a:xfrm>
              <a:off x="452160" y="249120"/>
              <a:ext cx="566640" cy="785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9080" y="404280"/>
            <a:ext cx="8129520" cy="405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форматизация – шаг в буд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288BFA68-CE87-4261-A376-A263FFBB8FEB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Прямоугольник 11"/>
          <p:cNvSpPr/>
          <p:nvPr/>
        </p:nvSpPr>
        <p:spPr>
          <a:xfrm>
            <a:off x="200160" y="2062080"/>
            <a:ext cx="4949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5"/>
          <a:stretch/>
        </p:blipFill>
        <p:spPr>
          <a:xfrm>
            <a:off x="415800" y="1701720"/>
            <a:ext cx="2090880" cy="3603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6"/>
          <a:stretch/>
        </p:blipFill>
        <p:spPr>
          <a:xfrm>
            <a:off x="1496880" y="5580000"/>
            <a:ext cx="7248600" cy="1017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Группа 10"/>
          <p:cNvGrpSpPr/>
          <p:nvPr/>
        </p:nvGrpSpPr>
        <p:grpSpPr>
          <a:xfrm>
            <a:off x="0" y="-36360"/>
            <a:ext cx="9906120" cy="1428480"/>
            <a:chOff x="0" y="-36360"/>
            <a:chExt cx="9906120" cy="1428480"/>
          </a:xfrm>
        </p:grpSpPr>
        <p:pic>
          <p:nvPicPr>
            <p:cNvPr id="641" name="Picture 3" descr=""/>
            <p:cNvPicPr/>
            <p:nvPr/>
          </p:nvPicPr>
          <p:blipFill>
            <a:blip r:embed="rId1"/>
            <a:srcRect l="0" t="0" r="364" b="0"/>
            <a:stretch/>
          </p:blipFill>
          <p:spPr>
            <a:xfrm>
              <a:off x="0" y="-36360"/>
              <a:ext cx="9906120" cy="142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" descr="E:\UDC\Конференція суддів\Untitled-1.gif"/>
            <p:cNvPicPr/>
            <p:nvPr/>
          </p:nvPicPr>
          <p:blipFill>
            <a:blip r:embed="rId2"/>
            <a:stretch/>
          </p:blipFill>
          <p:spPr>
            <a:xfrm>
              <a:off x="452160" y="249120"/>
              <a:ext cx="566640" cy="7855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87400" y="179280"/>
            <a:ext cx="8129520" cy="712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форматизация – путь к сокращению бюджетных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Номер слайда 5"/>
          <p:cNvSpPr/>
          <p:nvPr/>
        </p:nvSpPr>
        <p:spPr>
          <a:xfrm>
            <a:off x="7097760" y="6357960"/>
            <a:ext cx="23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r"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fld id="{1442A931-B226-4734-AF43-98DB0B13CD3C}" type="slidenum">
              <a:rPr b="0" lang="ru-RU" sz="13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Объект 14" descr=""/>
          <p:cNvPicPr/>
          <p:nvPr/>
        </p:nvPicPr>
        <p:blipFill>
          <a:blip r:embed="rId3"/>
          <a:stretch/>
        </p:blipFill>
        <p:spPr>
          <a:xfrm>
            <a:off x="493560" y="1590840"/>
            <a:ext cx="8918640" cy="33652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"/>
          <p:cNvPicPr/>
          <p:nvPr/>
        </p:nvPicPr>
        <p:blipFill>
          <a:blip r:embed="rId4"/>
          <a:stretch/>
        </p:blipFill>
        <p:spPr>
          <a:xfrm>
            <a:off x="3765600" y="5014800"/>
            <a:ext cx="2374920" cy="1690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"/>
          <p:cNvPicPr/>
          <p:nvPr/>
        </p:nvPicPr>
        <p:blipFill>
          <a:blip r:embed="rId5"/>
          <a:stretch/>
        </p:blipFill>
        <p:spPr>
          <a:xfrm>
            <a:off x="631800" y="1989000"/>
            <a:ext cx="2594160" cy="280836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0" descr=""/>
          <p:cNvPicPr/>
          <p:nvPr/>
        </p:nvPicPr>
        <p:blipFill>
          <a:blip r:embed="rId6"/>
          <a:stretch/>
        </p:blipFill>
        <p:spPr>
          <a:xfrm>
            <a:off x="6680160" y="1989000"/>
            <a:ext cx="2594160" cy="28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07:53:31Z</dcterms:created>
  <dc:creator/>
  <dc:description/>
  <dc:language>en-US</dc:language>
  <cp:lastModifiedBy/>
  <dcterms:modified xsi:type="dcterms:W3CDTF">2013-07-30T08:49:15Z</dcterms:modified>
  <cp:revision>1</cp:revision>
  <dc:subject/>
  <dc:title/>
</cp:coreProperties>
</file>