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53CA-F7F6-45A8-A271-9C0A6483710C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E738-BDC5-49C4-99BD-A8CD5507C1A2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EB321871-0F67-4EC0-B5CF-7C57BF389796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DD153C38-D3BF-4255-95C4-EEC7FCCA3BB3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168120" cy="673416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12" descr="sd_color_b1"/>
          <p:cNvPicPr/>
          <p:nvPr/>
        </p:nvPicPr>
        <p:blipFill>
          <a:blip r:embed="rId2"/>
          <a:stretch/>
        </p:blipFill>
        <p:spPr>
          <a:xfrm>
            <a:off x="3203640" y="4653000"/>
            <a:ext cx="2808360" cy="163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108000" y="6524280"/>
            <a:ext cx="9036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  <a:defRPr b="0" lang="sv-SE" sz="8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C6C9EDB9-34D4-428C-85CE-E2B6B3245C6E}" type="slidenum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 SVERIGES DOMSTOLAR    </a:t>
            </a:r>
            <a:fld id="{965CA408-0E11-499D-AEEF-88CC9898ED45}" type="datetime">
              <a:rPr b="0" lang="sv-SE" sz="800" spc="-1" strike="noStrike">
                <a:solidFill>
                  <a:srgbClr val="c0c0c0"/>
                </a:solidFill>
                <a:latin typeface="Times New Roman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A80DD2EE-1EB9-463E-AB48-D5A36D8D7D0F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4FDE0F85-457B-4BF1-99DD-FDAB9F514A60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100"/>
              </a:spcBef>
              <a:spcAft>
                <a:spcPts val="18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99"/>
                </a:solidFill>
                <a:latin typeface="Garamond"/>
              </a:rPr>
              <a:t>Development and implementation of IT in the work of courts</a:t>
            </a:r>
            <a:endParaRPr b="1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2" name="Picture 19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AD333D74-2C6E-44B3-9160-6D3EB6164F1C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EBEEADF7-4CDA-4F92-AB7D-B51EDF3C6CE9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Operational Support-priority development area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362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bjectiv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rts should have well-functioning business support that enables effective work and contributes to high qu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9280" y="2636640"/>
            <a:ext cx="828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rateg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ide user-friendly and effective technical assistance (judicial and administrative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nage and develop suppo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mote the u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sure that systems are secur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B046174F-9ECC-44A9-AE16-37D633F2AFDD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C7806316-40A8-4D0E-A2A1-37AFEF1063EB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5075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case and task management system for all cour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000" y="2133360"/>
            <a:ext cx="8281800" cy="34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be used fo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gistration of c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stribution of cas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ocument production – (Word) templat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ooking of meeting / facilities / equipment - calendar fun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duce docum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tatistics collectio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ntegration between agencies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ording of audio and vide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35F0EF7A-BD78-4CA9-B226-1776A83293B8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6327F186-25D5-47AB-B27F-17EF976B1C1A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Any computerized system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upport all employees in th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Jud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aw clerk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reta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Ush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elephone operato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eptionis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ministrators, etc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4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2407033D-9578-43BC-AFF7-99F223CDC61E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5B53AEC9-FDCE-44BA-8CD7-4FF176C3FB2E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Methods in the development of a computerized system</a:t>
            </a:r>
            <a:endParaRPr b="1" lang="en-US" sz="2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7786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t should support both current and future ways of working (”don’t add asphalt to the path”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9280" y="285264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he development should begin with a general description of the courts' work processes (representatives from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11280" y="4365720"/>
            <a:ext cx="734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y to generalize and relate to all types of cour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A83C55C9-A7B9-4D51-8EC2-09EF6E4FC5F4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BB7A8858-0F6F-4F2F-B016-DF683D45CAB6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ethods ….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42472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lect a number of pilot courts for the various proce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7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468360" y="191628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minars and workshops with mixed categories of sta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468360" y="278136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ment in stag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68360" y="3645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ployment in stage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2ABE37FD-3F10-486B-9F0D-7C0814D45451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71A03674-9440-497F-A24F-F2EAA6332F5A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Management of Vera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Ways of receiving chang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468360" y="206064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ordination in the respective cour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68360" y="26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ent to the …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321300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posals should be recorded in the intranet - visible to all us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95280" y="414972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68360" y="414972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sers can follow what happens to the propos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539640" y="4869000"/>
            <a:ext cx="82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way of prioritizing (reference grou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3"/>
          <p:cNvSpPr/>
          <p:nvPr/>
        </p:nvSpPr>
        <p:spPr>
          <a:xfrm>
            <a:off x="108000" y="6524640"/>
            <a:ext cx="9036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r" pos="8879040"/>
                <a:tab algn="l" pos="9144000"/>
                <a:tab algn="l" pos="10058400"/>
              </a:tabLst>
            </a:pPr>
            <a:fld id="{E4BCDDDA-AC87-4B14-AA17-C87ACBB6EA14}" type="slidenum">
              <a:rPr b="0" lang="sv-SE" sz="800" spc="-1" strike="noStrike">
                <a:solidFill>
                  <a:srgbClr val="c0c0c0"/>
                </a:solidFill>
                <a:latin typeface="Trebuchet MS"/>
              </a:rPr>
              <a:t>&lt;number&gt;</a:t>
            </a:fld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	</a:t>
            </a:r>
            <a:r>
              <a:rPr b="0" lang="sv-SE" sz="800" spc="-1" strike="noStrike">
                <a:solidFill>
                  <a:srgbClr val="c0c0c0"/>
                </a:solidFill>
                <a:latin typeface="Trebuchet MS"/>
              </a:rPr>
              <a:t> SVERIGES DOMSTOLAR    </a:t>
            </a:r>
            <a:fld id="{04F068C4-B1A6-4F4B-961A-A29BBBBFBA0B}" type="datetime">
              <a:rPr b="0" lang="sv-SE" sz="800" spc="-1" strike="noStrike">
                <a:solidFill>
                  <a:srgbClr val="c0c0c0"/>
                </a:solidFill>
                <a:latin typeface="Trebuchet MS"/>
              </a:rPr>
              <a:t>26-07-28</a:t>
            </a:fld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How to see to that the system is used in every court in the most efficient way?</a:t>
            </a:r>
            <a:r>
              <a:rPr b="1" lang="sv-SE" sz="3200" spc="-1" strike="noStrike">
                <a:solidFill>
                  <a:srgbClr val="003399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 part of introducing the projec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llow-up vis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ssons-learned workshop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sul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etings with all court president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Offer of routine and skills inventori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minars for various groups of user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urrent training for local teachers and systems administrator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3:19:05Z</dcterms:created>
  <dc:creator>camista</dc:creator>
  <dc:description/>
  <dc:language>en-US</dc:language>
  <cp:lastModifiedBy>lipovyi</cp:lastModifiedBy>
  <dcterms:modified xsi:type="dcterms:W3CDTF">2013-08-01T09:20:23Z</dcterms:modified>
  <cp:revision>255</cp:revision>
  <dc:subject/>
  <dc:title>Sveriges Domstolar</dc:title>
</cp:coreProperties>
</file>