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2C92-570F-4065-A8D7-ED3A629A2D43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92A9-425B-460B-B367-D511169D0651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44E488B-1ECF-4897-8D83-83A721AEA652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5DD13433-9364-44C8-A9EA-69DDF71F29AE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88FA55DA-9CD6-4D20-850B-C3320E6FD535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B11EA0F4-CF35-4936-9EA1-25F93FD0A889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8C980685-F409-46DD-8D13-ABDB863CFC25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DA0583FB-6922-485B-8C24-CEEC39634EE9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Development and implementation of IT in the work of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953FED0-32B9-4348-A70A-FA80DEA32FF3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DFBC4AE7-A2EE-4493-BA6C-18E594556CC2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Operational Support-priority development area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rts should have well-functioning business support that enables effective work and contributes to high qu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280" y="263664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user-friendly and effective technical assistance (judicial and administra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 and develop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te the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 that systems are secur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5E90909D-049E-40A4-BA87-7D2CE6A5A1AD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30F824C5-791D-4187-B43A-ADDAF566BB72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case and task management system for all cou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" y="2133360"/>
            <a:ext cx="82818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be used f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istration of c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tribution of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 production – (Word) tem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oking of meeting / facilities / equipment - calendar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 docu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istics col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between agenci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ing of audio and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FBFC51F2-318F-4FD3-A13F-9D43BBEAE8A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888DCA48-578A-45AC-BBDB-D3F85E17EB7D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y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all employees in th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d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w cle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ret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phone opera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tion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nistrators, etc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E42E99B3-5BD8-4B23-AA6B-82FFB85C701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B58EC536-7F69-489F-A1B3-EA5F630FE360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Methods in the development of a computerized system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support both current and future ways of working (”don’t add asphalt to the path”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2852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velopment should begin with a general description of the courts' work processes (representatives from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4365720"/>
            <a:ext cx="734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y to generalize and relate to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4C949FDF-F983-4A42-86AE-ECD7DFCE047D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0CAFFA16-D36F-4E9B-A98C-5B8AE4839326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ethods ….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a number of pilot courts for the various proc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7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916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inars and workshops with mixed categories of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836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in st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loyment in stag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058ACD4D-D83F-43BC-9D99-3DAD534906FE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600FD7AE-2EAD-432B-A3ED-427DEFC79732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anagement of Vera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ys of receiving chang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2060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in the respectiv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ent to the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321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hould be recorded in the intranet - visible to all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41497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414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s can follow what happens to th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48690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way of prioritizing (reference grou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F0A91880-CC3B-4467-B2A0-21F7A79FBF9D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6060E74F-1428-40A0-A32D-98E704A2E258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How to see to that the system is used in every court in the most efficient way?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part of introducing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ssons-learned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ings with all court pre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of routine and skills inven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s for various groups of us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urrent training for local teachers and systems administrator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0:23Z</dcterms:modified>
  <cp:revision>255</cp:revision>
  <dc:subject/>
  <dc:title>Sveriges Domstolar</dc:title>
</cp:coreProperties>
</file>