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CBD-BCAA-4E8D-A14D-7FB37ACF6A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673C-BB97-4AF5-BF2E-7109E7A87DA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9C9A-9D45-4E16-8686-0D90679851B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25EF-D3AB-431E-B6F5-10D05AEE21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7D90-62B2-48B1-9EEA-99FC8BEC536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1B58-D07C-4EEE-BB21-5684B461A9A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A791-E92F-4679-8A35-7A158EF0942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2236-DBD3-4D36-93E4-8598095506F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3129-2887-420B-9F7E-E573D159A1F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EB66-F90B-452C-9D20-B00A29FA92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9A8-28DF-47B0-AB7F-A14E219D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DED-B74E-4628-9AF5-8858B9F0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918-8A66-45C0-B47D-94F72588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0A5-ECFC-4D2B-B631-987C8A9C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8396-7238-493D-8E80-7BF5342B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7F01-08F3-4F67-A136-FF6DCFEF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368E-BA52-4723-A5C2-EEDD3F64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D523-6DCF-468B-8E56-3AE29411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002D-43AA-4E38-B33F-C19882CD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92B2-2896-42B1-9528-2C64A3F5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E51E-2441-4828-A6D9-D351C875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969-47B3-44F2-8109-E2D110CD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493A-0946-4542-8A9A-E73DC866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5AE3-415B-4657-B09F-F7E25A7C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1BB1-9BF5-4D24-9443-923BF8A0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8547-B179-4472-A5E9-5E056246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0802-6A12-44F8-B67E-6DA434D7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240-A095-4780-8C37-D0FB6649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2F0-DA1A-4A0E-9832-94E86D2F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FE0-DB2F-4969-86D4-8950AE08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A7C-70ED-4DB7-B4E3-E7973D22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05D-AF35-4978-A397-F9D3CD3A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C7E-1B0A-41B6-B992-A648DF34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E57-10FA-48B9-AE97-316CAF32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DE69-B3DF-4008-85E3-4D77888D09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E691-0525-4B09-8FD1-A186B9D4609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98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Задоволеність кл</a:t>
            </a: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ієнт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в державному управлінні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чікуванн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Досвід</a:t>
            </a:r>
            <a:br>
              <a:rPr sz="3200"/>
            </a:b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Репутаці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адоволе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СЛЯ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ізне сприйня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азвичай приймає як належне і професійні і технічні аспект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стачальник зосереджується на технічних і професійних аспектах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осереджується на якості впровадження і якості відносин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одаткова інформація (технічні аспекти) = більше задоволе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Розмежованість / Послідовність аналізу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истувач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авець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ікув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кість - ці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ийм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антує якіс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иклічність задоволеності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785240" y="2147760"/>
            <a:ext cx="5432400" cy="4474800"/>
            <a:chOff x="1785240" y="2147760"/>
            <a:chExt cx="5432400" cy="4474800"/>
          </a:xfrm>
        </p:grpSpPr>
        <p:sp>
          <p:nvSpPr>
            <p:cNvPr id="137" name="_s1028"/>
            <p:cNvSpPr/>
            <p:nvPr/>
          </p:nvSpPr>
          <p:spPr>
            <a:xfrm>
              <a:off x="2796120" y="2147760"/>
              <a:ext cx="3411000" cy="3096360"/>
            </a:xfrm>
            <a:custGeom>
              <a:avLst/>
              <a:gdLst>
                <a:gd name="textAreaLeft" fmla="*/ 0 w 3411000"/>
                <a:gd name="textAreaRight" fmla="*/ 3411360 w 341100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18560" y="2723760"/>
              <a:ext cx="3096000" cy="341064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0640"/>
                <a:gd name="textAreaBottom" fmla="*/ 3411000 h 341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487960" y="272304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43564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Оцінка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1636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Доповідь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19564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Вдосконалення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етодологія оцінки задоволеності споживач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устатковані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вічлив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унікаці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овір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апевненн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емпаті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таткування, надійність, чу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таткування: поява фізичних засобів, обладнання; персонал та інформаційні матеріал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дійність: здатність виконувати обіцяні послуги надійно і точно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еративність: бажання допомогти клієнтам і забезпечити оперативне обслуговув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компетентність, ввічливість, авторитет»  3 СС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мпетенція: володіння необхідними навичками і знаннями для виконання послуг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иявляти: ввічливість, повагу, увагу і дружелюбність персоналу контакт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едитоспроможність: надійність, реалістичність, чесність постачальника послуг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певнення, доступність, комунікативність, емпаті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тіха: свобода від небезпеки або сумнівів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ступ: доступністю і простотою в контактуванн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унікативність: Слухає своїх клієнтів і підтверджує їх зауваження. Інформує клієнтів - мовою, яку вони можуть зрозуміт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озуміння замовника: додавати зусиль, спрямованих на пізнання клієнтів та їх потреб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матеріальна забезпече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Функціональність будівлю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истота в залі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 залів судових засідан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ировинні товари та комунальні послуг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исутність співробіт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явність інформац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Гнучкість робочого графік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овнішнє розпізнавання праців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івень інформатизації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Наді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опоміжні можливості працівникі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 / Коректні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ерівництво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готовле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оч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ороткий огля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Що означає задоволеність клієнта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Хто вважається клієнтом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ому ми повинні оцінювати задоволеність клієнтів?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Яким чином оцінити задоволеність клієнтів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то повинен цим займатися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Оператив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вічливість працівників (персональна / по телефону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єчасність викона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івробітники готові дати відповідь на питання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нучкий або бюрократичний підхід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инники якості в суді: Доступність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 телефону, електронною поштою, веб-портал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легко знайти те, що вам потрібн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достатній доступ для інвалідів, меншин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форм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сигналів / інструкці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Зв'язок / Співчу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міння слух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мога допомоги клієнту сформулювати його ж потреб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філактика / скорочення помило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критість для клієнта скарги /пропозиції / претензії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/ що оцінити?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ширення анкет-опитувань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Телефонув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йте вашим клієнтам спосіб оголосити скаргу, дати вказівку, щодо скар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аючи на запитання, зосередити увагу на цілий ряд послуг, або одного або двох секторі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потрібно оцінювати: 5 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олітик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цес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сті Люд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иміще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дукт/послу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МІЖНАРОДНИЙ ІНСТИТУТ СЛУЖБИ СПОЖИВАЧІВ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Хто цим займаєтьс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Інтерв'ю може бути зроблено фахівцями або Вами особист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людей, які користувались або можуть зкористатися судовими послугам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-Націленість на адвокатів, громадян і  т.д. і т.п.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задовільність: шкала Лайкер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ункт": (позитивне або негативне) заяви повинні оцінюватися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'ять можливих відповідей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і потім сумуютьс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нкетування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винні уникати неясної термінолог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повинні задаватися в нейтральній форм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ьте впевнені, що опитані знають про, що ви говорит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не повинні вимагати зусиль пам'ят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дин з аспектів по кожному пункту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ам'ятайте, що ви оцінюєте відчуття (Психометрія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риклад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 Співробітники Суду ввічливі і професійні"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далі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відь прозорості (так як в Хартії надання послуг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роки: обговорити із співробітникам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кращення того, що може бути покращено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лієнт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-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це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оба, що має матеріальний досвід наших послуг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отенційні" клієнти можуть надати інформацію про репутацію (наприклад, очікування) послуг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Ключові слова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ислуховува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озумі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ідкрит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алаштованість на громадя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Як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остачальник” – це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й, хто надає послуги громадськості і організовує їх викон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до таке задоволеність клієн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ість клієнтів є способом надання послуг за яким Ви перевершуєте іх очікування (не обдурити громадян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начення задоволеності це прорив між очікуваннями та досвідом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... чому ми повинні про це дбати?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державній службі, як правило, монополістичній, вимірювання клієнтської задоволеності це єдиний спосіб оцінки продуктивності. Приватні компанії мають інші інструменти оцінки, такі як прибуток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помагає постачальниками державних послуг послуг вибирати пріоритети втручанн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магає поліпшити якість обслуговування і репутацію постачальни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довільність додає цінності продукт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Виконанн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датність впровадити інституційні цілі державної служби"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2130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бажана державна м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трим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457200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е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к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На стороні постачальника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виконання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7160" y="1827360"/>
            <a:ext cx="78264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дуктивність (потенціал перетворення фактору виробництва в продукті: вхідний -&gt; вихідний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 (працює або працює у спосіб, який дає бажаний результат без будь-яких зволікань)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очікувані результа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440" y="301320"/>
            <a:ext cx="7754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і сторони клієнта, виконання -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метод яким державні послуги задовільняють потребу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ня потреб клієнтів вказує на різницю між продуктивністю очікувану клієнтом та передбачуваний досвід у їх виконанн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21Z</dcterms:modified>
  <cp:revision>57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