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5920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98A6-357A-4120-AE44-B7B7AA329F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316D-D870-484C-BDFC-8EB7DC12144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3CE-B303-4B54-AB58-AAB89EF2CD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5FDC-9762-458F-BFEF-EA208E92D7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5 or 10 aggregates or dimen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ACF0-4B07-4F81-A6E2-925C4085901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5C18-D948-4291-80CD-53536E1A60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C27A-E3F9-4DD0-A83A-BF3FF18106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FB31-7C4A-44E2-8AD7-9FEE972F691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F16F-90B6-47F8-817D-B04E8A0D0B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59200" y="9445680"/>
            <a:ext cx="2951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0C1-0005-47DC-BF3D-5308B30547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560" y="455724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5CAA-8CE3-47D3-8A1B-EA67EE2B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4CC8-2D3D-4C33-A56F-4300BE34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318-32B4-4284-96B9-E5182C6C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D99D-94AD-4751-B502-28B9E40B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1363-B12D-4DBB-B8F1-7CBAA8E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93F-D2CC-40D1-A841-58A8087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23DD-4E3B-4EB5-BFAE-0F485FBD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6C24-E184-4C07-86C5-8CDD1B88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8276-2C55-4BF0-BAAE-F0A9E225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D3A5-4699-4AFA-A80C-5B728BC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937E-6EDF-4A52-A48D-C5308444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2000-4BB6-42CC-B380-F9AEF4D3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BA7E-3349-4B43-B697-5FF2C615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DB4B-8E10-4598-8980-C8D1AE0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F355-A25A-4982-A944-2C66B41F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A9B0-175F-41CD-881D-0CCD3C73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CDEE-EC7A-430D-A483-716D9F5A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407-365F-43DF-A569-FB7794B7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D4A-D4C3-4A17-BA33-A9F57623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49C-8030-4D1C-896B-F2B2CAE4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071-33B9-4284-9B1F-FF4FB7A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258-9A90-462B-AD67-35AE4DDE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832-F93C-4AE6-B509-1F92A264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2D92-FBAB-429E-80A9-0A829F5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7630-B899-4398-AD87-E8D712E696C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1D7-B458-4D98-B98D-40AEB282ED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980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Задоволеність кл</a:t>
            </a: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ієнта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в державному управлінні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880" y="3427560"/>
            <a:ext cx="6259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чікуванн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Досвід</a:t>
            </a:r>
            <a:br>
              <a:rPr sz="3200"/>
            </a:b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Репутація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–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адоволеніст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360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292720" y="1916280"/>
            <a:ext cx="3166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СЛЯ звернення в Суд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8" descr="courthouse"/>
          <p:cNvPicPr/>
          <p:nvPr/>
        </p:nvPicPr>
        <p:blipFill>
          <a:blip r:embed="rId1"/>
          <a:stretch/>
        </p:blipFill>
        <p:spPr>
          <a:xfrm>
            <a:off x="1042920" y="3213000"/>
            <a:ext cx="3270240" cy="255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courthouse"/>
          <p:cNvPicPr/>
          <p:nvPr/>
        </p:nvPicPr>
        <p:blipFill>
          <a:blip r:embed="rId2"/>
          <a:stretch/>
        </p:blipFill>
        <p:spPr>
          <a:xfrm>
            <a:off x="5219640" y="3284640"/>
            <a:ext cx="327024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23"/>
          <p:cNvSpPr/>
          <p:nvPr/>
        </p:nvSpPr>
        <p:spPr>
          <a:xfrm>
            <a:off x="1979640" y="5661000"/>
            <a:ext cx="1295280" cy="936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24"/>
          <p:cNvSpPr/>
          <p:nvPr/>
        </p:nvSpPr>
        <p:spPr>
          <a:xfrm>
            <a:off x="6516720" y="5734080"/>
            <a:ext cx="1150920" cy="93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25" descr="sb"/>
          <p:cNvPicPr/>
          <p:nvPr/>
        </p:nvPicPr>
        <p:blipFill>
          <a:blip r:embed="rId3"/>
          <a:stretch/>
        </p:blipFill>
        <p:spPr>
          <a:xfrm>
            <a:off x="468360" y="2708280"/>
            <a:ext cx="1366920" cy="1239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6" descr="ok"/>
          <p:cNvPicPr/>
          <p:nvPr/>
        </p:nvPicPr>
        <p:blipFill>
          <a:blip r:embed="rId4"/>
          <a:stretch/>
        </p:blipFill>
        <p:spPr>
          <a:xfrm>
            <a:off x="7451640" y="2708280"/>
            <a:ext cx="1481400" cy="139716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7"/>
          <p:cNvSpPr/>
          <p:nvPr/>
        </p:nvSpPr>
        <p:spPr>
          <a:xfrm>
            <a:off x="3924360" y="4149720"/>
            <a:ext cx="1584360" cy="1224000"/>
          </a:xfrm>
          <a:prstGeom prst="leftRightArrow">
            <a:avLst>
              <a:gd name="adj1" fmla="val 50000"/>
              <a:gd name="adj2" fmla="val 257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Різне сприйня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азвичай приймає як належне і професійні і технічні аспект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стачальник зосереджується на технічних і професійних аспектах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лієнт зосереджується на якості впровадження і якості відносин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одаткова інформація (технічні аспекти) = більше задоволе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Розмежованість / Послідовність аналізу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0160" y="1827360"/>
          <a:ext cx="7313400" cy="3879720"/>
        </p:xfrm>
        <a:graphic>
          <a:graphicData uri="http://schemas.openxmlformats.org/drawingml/2006/table">
            <a:tbl>
              <a:tblPr/>
              <a:tblGrid>
                <a:gridCol w="3657600"/>
                <a:gridCol w="3655800"/>
              </a:tblGrid>
              <a:tr h="4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ристувач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давець</a:t>
                      </a:r>
                      <a:r>
                        <a:rPr b="1" lang="it-IT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чікув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кість - ці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4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иймана якість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рантує якіст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Циклічність задоволеності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Diagram 5"/>
          <p:cNvGrpSpPr/>
          <p:nvPr/>
        </p:nvGrpSpPr>
        <p:grpSpPr>
          <a:xfrm>
            <a:off x="1785240" y="2147760"/>
            <a:ext cx="5432400" cy="4474800"/>
            <a:chOff x="1785240" y="2147760"/>
            <a:chExt cx="5432400" cy="4474800"/>
          </a:xfrm>
        </p:grpSpPr>
        <p:sp>
          <p:nvSpPr>
            <p:cNvPr id="137" name="_s1028"/>
            <p:cNvSpPr/>
            <p:nvPr/>
          </p:nvSpPr>
          <p:spPr>
            <a:xfrm>
              <a:off x="2796120" y="2147760"/>
              <a:ext cx="3411000" cy="3096360"/>
            </a:xfrm>
            <a:custGeom>
              <a:avLst/>
              <a:gdLst>
                <a:gd name="textAreaLeft" fmla="*/ 0 w 3411000"/>
                <a:gd name="textAreaRight" fmla="*/ 3411360 w 3411000"/>
                <a:gd name="textAreaTop" fmla="*/ 0 h 3096360"/>
                <a:gd name="textAreaBottom" fmla="*/ 3096720 h 309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_s1029"/>
            <p:cNvSpPr/>
            <p:nvPr/>
          </p:nvSpPr>
          <p:spPr>
            <a:xfrm rot="7200000">
              <a:off x="3418560" y="2723760"/>
              <a:ext cx="3096000" cy="341064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0640"/>
                <a:gd name="textAreaBottom" fmla="*/ 3411000 h 3410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_s1030"/>
            <p:cNvSpPr/>
            <p:nvPr/>
          </p:nvSpPr>
          <p:spPr>
            <a:xfrm rot="14400000">
              <a:off x="2487960" y="2723040"/>
              <a:ext cx="3096000" cy="3411000"/>
            </a:xfrm>
            <a:custGeom>
              <a:avLst/>
              <a:gdLst>
                <a:gd name="textAreaLeft" fmla="*/ 0 w 3096000"/>
                <a:gd name="textAreaRight" fmla="*/ 3096360 w 3096000"/>
                <a:gd name="textAreaTop" fmla="*/ 0 h 3411000"/>
                <a:gd name="textAreaBottom" fmla="*/ 3411360 h 34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_s1031"/>
            <p:cNvSpPr/>
            <p:nvPr/>
          </p:nvSpPr>
          <p:spPr>
            <a:xfrm>
              <a:off x="5435640" y="2712960"/>
              <a:ext cx="136800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Оцінка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_s1032"/>
            <p:cNvSpPr/>
            <p:nvPr/>
          </p:nvSpPr>
          <p:spPr>
            <a:xfrm>
              <a:off x="3816360" y="5261040"/>
              <a:ext cx="136836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Доповідь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_s1033"/>
            <p:cNvSpPr/>
            <p:nvPr/>
          </p:nvSpPr>
          <p:spPr>
            <a:xfrm>
              <a:off x="2195640" y="2714760"/>
              <a:ext cx="1368360" cy="12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900" spc="-1" strike="noStrike">
                  <a:solidFill>
                    <a:srgbClr val="000000"/>
                  </a:solidFill>
                  <a:latin typeface="Verdana"/>
                </a:rPr>
                <a:t>Вдосконалення</a:t>
              </a:r>
              <a:endParaRPr b="0" lang="en-US" sz="39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одологія оцінки задоволеності споживач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устатковані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й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ввічлив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унікаці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овірність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апевнення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емпаті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Устаткування, надійність, чу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Устаткування: поява фізичних засобів, обладнання; персонал та інформаційні матеріал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дійність: здатність виконувати обіцяні послуги надійно і точно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перативність: бажання допомогти клієнтам і забезпечити оперативне обслуговув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«компетентність, ввічливість, авторитет»  3 ССС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омпетенція: володіння необхідними навичками і знаннями для виконання послуг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иявляти: ввічливість, повагу, увагу і дружелюбність персоналу контакт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Кредитоспроможність: надійність, реалістичність, чесність постачальника послуг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Запевнення, доступність, комунікативність, емпаті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тіха: свобода від небезпеки або сумнівів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ступ: доступністю і простотою в контактуванн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унікативність: Слухає своїх клієнтів і підтверджує їх зауваження. Інформує клієнтів - мовою, яку вони можуть зрозуміт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озуміння замовника: додавати зусиль, спрямованих на пізнання клієнтів та їх потреб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матеріальна забезпече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Функціональність будівлю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истота в залі суд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Доступність залів судових засідань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ировинні товари та комунальні послуги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исутність співробіт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явність інформац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нучкість робочого графіку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Зовнішнє розпізнавання працівників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Рівень інформатизації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Надій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Допоміжні можливості працівникі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 / Коректність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ерівництво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мпетент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ідготовле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очн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Надійн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ороткий огля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Що означає задоволеність клієнта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Хто вважається клієнтом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ому ми повинні оцінювати задоволеність клієнтів?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Яким чином оцінити задоволеність клієнтів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Хто повинен цим займатися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Оперативність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вічливість працівників (персональна / по телефону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воєчасність викона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івробітники готові дати відповідь на питання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нучкий або бюрократичний підхід?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Чинники якості в суді: Доступність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 телефону, електронною поштою, веб-порталам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легко знайти те, що вам потрібн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Чи достатній доступ для інвалідів, меншин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форм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розумілість сигналів / інструкцій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Чинники якості в суді: Зв'язок / Співчуття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міння слух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мога допомоги клієнту сформулювати його ж потреб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філактика / скорочення помилок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критість для клієнта скарги /пропозиції / претензії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/ що оцінити?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оширення анкет-опитувань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Телефонувати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айте вашим клієнтам спосіб оголосити скаргу, дати вказівку, щодо скар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аючи на запитання, зосередити увагу на цілий ряд послуг, або одного або двох секторів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потрібно оцінювати: 5 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олітик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цес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сті Люди;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иміщення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дукт/по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МІЖНАРОДНИЙ ІНСТИТУТ СЛУЖБИ СПОЖИВАЧІВ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Хто цим займаєтьс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Інтерв'ю може бути зроблено фахівцями або Вами особисто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ля людей, які користувались або можуть зкористатися судовими послугами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--Націленість на адвокатів, громадян і  т.д. і т.п.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Як оцінити задовільність: шкала Лайкерта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ункт": (позитивне або негативне) заяви повинні оцінюватися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'ять можливих відповідей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Відповіді потім сумуютьс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нкетування 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винні уникати неясної термінології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повинні задаватися в нейтральній форм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ьте впевнені, що опитані знають про, що ви говорите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итання не повинні вимагати зусиль пам'яті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дин з аспектів по кожному пункту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ам'ятайте, що ви оцінюєте відчуття (Психометрія)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риклад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 Співробітники Суду ввічливі і професійні"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Я рішуче не згодний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не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швидше згодний, як ні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згодний;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 абсолютно згодний.</a:t>
            </a:r>
            <a:r>
              <a:rPr b="0" lang="it-IT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 далі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відь прозорості (так як в Хартії надання послуг)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роки: обговорити із співробітниками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кращення того, що може бути покращено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Клієнт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-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це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Особа, що має матеріальний досвід наших послуг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"Потенційні" клієнти можуть надати інформацію про репутацію (наприклад, очікування) послуг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Ключові слова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розор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ислуховува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озумінн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Відкрит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лаштованість на громадян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Якість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остачальник” – це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Той, хто надає послуги громадськості і організовує їх виконання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Щодо таке задоволеність клієнт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ість клієнтів є способом надання послуг за яким Ви перевершуєте іх очікування (не обдурити громадян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начення задоволеності це прорив між очікуваннями та досвідом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... чому ми повинні про це дбати?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державній службі, як правило, монополістичній, вимірювання клієнтської задоволеності це єдиний спосіб оцінки продуктивності. Приватні компанії мають інші інструменти оцінки, такі як прибуток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помагає постачальниками державних послуг послуг вибирати пріоритети втручання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опомагає поліпшити якість обслуговування і репутацію постачальник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довільність додає цінності продукту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Виконання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датність впровадити інституційні цілі державної служби"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1908000" y="386064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372360" y="321300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бажана державна м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516720" y="4581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трима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050920" y="3860640"/>
            <a:ext cx="5473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468360" y="457200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Де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Як Ви досягн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а стороні постачальника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виконання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.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7160" y="1827360"/>
            <a:ext cx="7826400" cy="47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Продуктивність (потенціал перетворення фактору виробництва в продукті: вхідний -&gt; вихідний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 (працює або працює у спосіб, який дає бажаний результат без будь-яких зволікань)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очікувані результат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440" y="301320"/>
            <a:ext cx="7754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Зі сторони клієнта, виконання - це</a:t>
            </a:r>
            <a:r>
              <a:rPr b="0" lang="it-IT" sz="3200" spc="-1" strike="noStrike">
                <a:solidFill>
                  <a:srgbClr val="0066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Ефективність: метод яким державні послуги задовільняють потребу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доволення потреб клієнтів вказує на різницю між продуктивністю очікувану клієнтом та передбачуваний досвід у їх виконанн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38:01Z</dcterms:created>
  <dc:creator>pippo</dc:creator>
  <dc:description/>
  <dc:language>en-US</dc:language>
  <cp:lastModifiedBy>lipovyi</cp:lastModifiedBy>
  <dcterms:modified xsi:type="dcterms:W3CDTF">2013-08-01T09:29:21Z</dcterms:modified>
  <cp:revision>57</cp:revision>
  <dc:subject/>
  <dc:title>Customer Satisfaction in the Public Administ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