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D24F-F4E2-440C-9327-C0680729781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03C9-44D0-44D2-A6F0-4C1852D571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E6BF-143D-4A41-AB66-CE88E31D476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DFAB-6DEE-4AF0-924C-62D43E8A8D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 or 10 aggregates or 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4530-2DD1-4225-94F2-842CD05D105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E1F3-2F0A-4982-85AC-016F967310F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FC7A3-D50B-49F5-BD59-07A5C0579E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914C-7910-4235-AF50-802FF0F0F3A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551F-508C-4746-9F99-51690F55678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5B0-40A8-4EBD-A061-FAEF0D2C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86A-87CA-4179-83F2-B6B9F160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304-7865-42CD-AC66-496795A7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421-9205-4309-8A3E-E27D5CA7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23DE-3E32-4BF7-B425-CD7A0B01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5DB3-5C18-40B1-B2B5-4CF7657B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01BF-B521-4DEB-BF76-6529E63E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B21C-0303-41E3-8653-EABECA94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83D9-1EAB-4446-AC61-30954F15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9A78-D21B-489D-91A7-6FBA9E8E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B34F-FFE2-4539-A567-7ABB73FB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763C-4676-4A17-A4F7-C7746CFF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DC81-1326-42B0-AA3C-ED42436C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441F-2FBB-4C26-A8AA-164EEF2A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6429-3D4D-4AAE-96EC-A762F371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537E-5FF6-4494-93C5-CF023294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A4C2-76D5-44EF-A220-26280CFF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55E-5085-4063-B785-3545C5E7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DE3-8948-480B-A1A9-089803C2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353-76A6-4D57-8E46-C72967D1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341-2978-442C-A1C4-BCF6B6F3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499-0A38-4190-9171-999BE1DB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669-0D36-4C29-B684-C1166252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1C0-CEC0-41EB-97FA-5C440D54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9BBD-793A-4B87-BC3D-8FF5EDF1EC6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7F0C-C6AA-4DD4-9B78-C3D27BB9924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66"/>
                </a:solidFill>
                <a:latin typeface="Arial"/>
              </a:rPr>
              <a:t>Customer Satisfaction in the Public Administra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880" y="342756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Expectation – Experience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eputation  – Satisfac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BEFORE going to cou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92720" y="1916280"/>
            <a:ext cx="316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fter going to Cou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courthouse"/>
          <p:cNvPicPr/>
          <p:nvPr/>
        </p:nvPicPr>
        <p:blipFill>
          <a:blip r:embed="rId1"/>
          <a:stretch/>
        </p:blipFill>
        <p:spPr>
          <a:xfrm>
            <a:off x="1042920" y="3213000"/>
            <a:ext cx="3270240" cy="25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courthouse"/>
          <p:cNvPicPr/>
          <p:nvPr/>
        </p:nvPicPr>
        <p:blipFill>
          <a:blip r:embed="rId2"/>
          <a:stretch/>
        </p:blipFill>
        <p:spPr>
          <a:xfrm>
            <a:off x="5219640" y="3284640"/>
            <a:ext cx="327024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3"/>
          <p:cNvSpPr/>
          <p:nvPr/>
        </p:nvSpPr>
        <p:spPr>
          <a:xfrm>
            <a:off x="1979640" y="5661000"/>
            <a:ext cx="1295280" cy="936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6516720" y="573408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5" descr="sb"/>
          <p:cNvPicPr/>
          <p:nvPr/>
        </p:nvPicPr>
        <p:blipFill>
          <a:blip r:embed="rId3"/>
          <a:stretch/>
        </p:blipFill>
        <p:spPr>
          <a:xfrm>
            <a:off x="468360" y="2708280"/>
            <a:ext cx="1366920" cy="1239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ok"/>
          <p:cNvPicPr/>
          <p:nvPr/>
        </p:nvPicPr>
        <p:blipFill>
          <a:blip r:embed="rId4"/>
          <a:stretch/>
        </p:blipFill>
        <p:spPr>
          <a:xfrm>
            <a:off x="7451640" y="2708280"/>
            <a:ext cx="148140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7"/>
          <p:cNvSpPr/>
          <p:nvPr/>
        </p:nvSpPr>
        <p:spPr>
          <a:xfrm>
            <a:off x="3924360" y="4149720"/>
            <a:ext cx="1584360" cy="1224000"/>
          </a:xfrm>
          <a:prstGeom prst="leftRightArrow">
            <a:avLst>
              <a:gd name="adj1" fmla="val 50000"/>
              <a:gd name="adj2" fmla="val 257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Different percep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ient normally takes for granted technical and professional asp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vider focusses on tecnical and professional asp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ient focusses on the quality of delivery and of the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ore informations (on technical aspects) = more satisf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Gap / coherence analysis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0160" y="1827360"/>
          <a:ext cx="7313400" cy="387972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en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cted qua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targe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ived qua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grant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The Cycle of Satisfa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Diagram 5"/>
          <p:cNvGrpSpPr/>
          <p:nvPr/>
        </p:nvGrpSpPr>
        <p:grpSpPr>
          <a:xfrm>
            <a:off x="1857960" y="2147760"/>
            <a:ext cx="5432760" cy="4474800"/>
            <a:chOff x="1857960" y="2147760"/>
            <a:chExt cx="5432760" cy="4474800"/>
          </a:xfrm>
        </p:grpSpPr>
        <p:sp>
          <p:nvSpPr>
            <p:cNvPr id="137" name="_s1028"/>
            <p:cNvSpPr/>
            <p:nvPr/>
          </p:nvSpPr>
          <p:spPr>
            <a:xfrm>
              <a:off x="2868840" y="2147760"/>
              <a:ext cx="3411360" cy="3096360"/>
            </a:xfrm>
            <a:custGeom>
              <a:avLst/>
              <a:gdLst>
                <a:gd name="textAreaLeft" fmla="*/ 0 w 3411360"/>
                <a:gd name="textAreaRight" fmla="*/ 3411720 w 341136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 rot="7200000">
              <a:off x="3491640" y="2723400"/>
              <a:ext cx="3096000" cy="341100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000"/>
                <a:gd name="textAreaBottom" fmla="*/ 3411360 h 34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 rot="14400000">
              <a:off x="2561040" y="2723400"/>
              <a:ext cx="3096000" cy="341136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360"/>
                <a:gd name="textAreaBottom" fmla="*/ 3411720 h 341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5508720" y="2712960"/>
              <a:ext cx="136800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900" spc="-1" strike="noStrike">
                  <a:solidFill>
                    <a:srgbClr val="000000"/>
                  </a:solidFill>
                  <a:latin typeface="Verdana"/>
                </a:rPr>
                <a:t>Assess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3889440" y="5261040"/>
              <a:ext cx="13683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Verdana"/>
                </a:rPr>
                <a:t>Report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2268360" y="2714760"/>
              <a:ext cx="136836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500" spc="-1" strike="noStrike">
                  <a:solidFill>
                    <a:srgbClr val="000000"/>
                  </a:solidFill>
                  <a:latin typeface="Verdana"/>
                </a:rPr>
                <a:t>Improve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Customer Satisfaction assessment  methodology: the SERVQUAL mod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tangible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liability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sponsivenes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petence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ccess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urtes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munication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redibilit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assuranc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empat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Tangibles, Reliability, Responsiven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angibles: Appearance of physical facilities, equipment, personnel, and communication materi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liability: Ability to perform the promised service dependably and accuratel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sponsiveness: Willingness to help customers and provide prompt serv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“CCC”: Competence, Courtesy, Cred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mpetence: Possession of required skill and knowledge to perform serv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urtesy: Politeness, respect, consideration and friendliness of contact personnel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redibility: trustworthiness, believability, honesty of the service provider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Reassurance, Accessibility, Communication, Empath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Reassurance: freedom from risk or doub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ccess: Approachability and ease of contac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munication: Listens to its customers and acknowledges their comments. Keeps customers informed - in a language which they can understand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Understanding the customer: Making the effort to know customers and their need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Drivers of quality in a Court: Tangibl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unctionality of the Court buil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eanliness of the Courtro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ccessibility of the Courtroo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mmodities and uti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appearan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vailability of informa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usiness hours are comfort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 are recogniz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evel of informatis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Drivers of quality in a Court: Relia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Helpfulnes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ransparency / Correct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ront office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pet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Prepa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Preci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Summary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at is Customer Satisfac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o is the Customer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y we should assess C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How can we assess Customer Satisfac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o should do i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Drivers of quality in a Court: Responsiven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Courtesy (in person /by phon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imeliness of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 give ready response to questio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lexible or bureucratic approa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4. Drivers of quality in a Court: Access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y phone, e-mail, we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s it easy to find what you need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s it accessible to handicapped, minoriti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ability of fo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ability of signals/instru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5. Drivers of quality in a Court: Communication /Empath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apacity of listen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apacity of assisting the customer articulate his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evention /reduction of mistak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penness to Customer Complaint /feedback /clai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How to assess and what to ass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Disseminate questionnai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ake phone cal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Give your clients a way to air complaints, to give feedback, to present compl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n questionnaires, focus on the whole range of services or one or two sec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to assess: the 5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olicy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cess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eople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emis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duct/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The International Customer Service Institu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o is doing 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nterviews can be done by professionals or by yoursel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o people who have experienced or are likely to experience Court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.g: target on lawyers, citizens etc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How to assess satisfaction: 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the Likert sca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tem”: a (positive or negative) statement to be evalua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ive answers possibl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Neither agree nor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nswers are then summ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Questionnaires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avoid obscure termin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present questions in a neutral w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e sure that interviewed know what you are talking ab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not require memory eff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ne aspect per i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meber you are assessing sensations (psychometry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Exampl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urt employees are courteous and professional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Neither agree nor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nex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eport transparently (e.g: in the Service Charter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arn lessons: discuss with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ct to improve what can be impro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Customer” is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 person who has a material experience of our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otential” customers can provide info about reputation (e.g.: expectations) of the serv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Key word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ransparen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iste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pen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itizen-oriented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Provider” is…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He who provides a public service and organizes its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is Customer Satisfaction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ustomer Satisfaction is the way services provided meet / surpass / delude citizens’ expecta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he value of Satisfaction is the gap between expectations and exper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and why we should care??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n a public service, which is normally monopolistic, measuring CS is the only way to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assess the performanc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. Private companies have other tools such as </a:t>
            </a:r>
            <a:r>
              <a:rPr b="0" lang="it-IT" sz="2500" spc="-1" strike="noStrike" u="sng">
                <a:solidFill>
                  <a:srgbClr val="000000"/>
                </a:solidFill>
                <a:uFillTx/>
                <a:latin typeface="Verdana"/>
              </a:rPr>
              <a:t>profit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Helps public services providers to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choos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prioritie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of interven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Helps to improve service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nd the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putation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of the provi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Satisfaction adds value to the produ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Performanc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he capacity of pursuing the institutional purpose of a public service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908000" y="3860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372360" y="33577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sired End S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516720" y="4581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050920" y="3860640"/>
            <a:ext cx="5473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8360" y="508464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WHERE you g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HOW you g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On the Provider side, performance is…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Productivity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(the capacity of turning factors of production into a product: input -&gt; output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fficiency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(working or operating in a way that gets the results you want without any waste)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ffectiveness: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producing the intended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On the Customer side, 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performance is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ffectiveness: the way a public service satisfies a ne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ustomer satisfaction analizes the gap between the customer's </a:t>
            </a: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xpectation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of performance and their perceived </a:t>
            </a: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xperience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of performanc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8:01Z</dcterms:created>
  <dc:creator>pippo</dc:creator>
  <dc:description/>
  <dc:language>en-US</dc:language>
  <cp:lastModifiedBy>lipovyi</cp:lastModifiedBy>
  <dcterms:modified xsi:type="dcterms:W3CDTF">2013-08-01T09:29:07Z</dcterms:modified>
  <cp:revision>13</cp:revision>
  <dc:subject/>
  <dc:title>Customer Satisfaction in the Public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