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79A3-E075-43D3-BE12-210B42D0A3B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9F8C-43FC-45F6-ADA3-E9F41D19F38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65B0-355A-4F28-A6A8-C9E7680129B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94A6-B30E-4F85-A5FF-4E29507688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4A18-3B8A-487A-8350-B4925BE9EA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E36C-8296-4B3E-BED9-6A4C715E2B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7A8-4176-4A21-A8BD-4AD348463C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DA9-3CB7-4570-A9A7-27EA4228497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332C-A496-477D-9D5F-1C04DAEAC39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55E-6DD9-46CA-8662-FF54BB0A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4CB-1281-44AE-85BB-C5BE18FC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AC40-65C1-432F-95FB-98BFD6D6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9DA-7510-4618-AABE-30724B5A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240-C90C-4A8F-8FE6-6EEC70F0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974-2508-4313-9C92-372F63E6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FFCA-6F8F-4DEE-8717-5B9A4255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51D5-DCF0-4032-8D31-8E94F7B7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89D0-1AAA-40C4-8FBF-1049A62E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C4C9-C5C0-4FAA-9F40-60E13241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98CB-64BD-4969-8029-7C06F22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97C-57CD-4D4D-86B3-8F1ECF50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874C-2FA0-43B2-93B6-E524B6AF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BD3C-F833-417D-8C7B-660CD146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CB1C-644E-434A-BD30-4E43EDB9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1667-B8EF-465B-B080-6A56D07F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6FFF-E2F9-4DB1-8624-BDA31EAE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60B-EB6D-43DD-99A6-CE30AD18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CEC1-FEC6-485F-9920-C5415F1F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0F42-970F-4941-944A-200C0A85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7ECD-6904-4D6D-887E-9C045D15E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8F33-C667-485E-BD29-8C56139E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96D-6818-4604-8AD2-86631B44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2D7-59CC-4D84-BF54-30451EEF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CF03-1C16-482E-82F5-CA47CFB892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2723-E3E9-4A01-984B-182531C8BFD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6666"/>
                </a:solidFill>
                <a:latin typeface="Arial"/>
              </a:rPr>
              <a:t>Customer Satisfaction in the Public Administra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Expectation – Experience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Reputation  – Satisfac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BEFORE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fter going to Cour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Different percep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normally takes for granted tech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vider focusses on tecnical and professional asp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ient focusses on the quality of delivery and of the relationship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ore informations (on technical aspects) = more satisfa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Gap / coherence analysis: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ient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r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ect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arge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ceived qual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granted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The Cycle of Satisfac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857960" y="2147760"/>
            <a:ext cx="5432760" cy="4474800"/>
            <a:chOff x="1857960" y="2147760"/>
            <a:chExt cx="5432760" cy="4474800"/>
          </a:xfrm>
        </p:grpSpPr>
        <p:sp>
          <p:nvSpPr>
            <p:cNvPr id="137" name="_s1028"/>
            <p:cNvSpPr/>
            <p:nvPr/>
          </p:nvSpPr>
          <p:spPr>
            <a:xfrm>
              <a:off x="2868840" y="2147760"/>
              <a:ext cx="3411360" cy="3096360"/>
            </a:xfrm>
            <a:custGeom>
              <a:avLst/>
              <a:gdLst>
                <a:gd name="textAreaLeft" fmla="*/ 0 w 3411360"/>
                <a:gd name="textAreaRight" fmla="*/ 3411720 w 341136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91640" y="272340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561040" y="2723400"/>
              <a:ext cx="3096000" cy="341136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360"/>
                <a:gd name="textAreaBottom" fmla="*/ 3411720 h 341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50872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900" spc="-1" strike="noStrike">
                  <a:solidFill>
                    <a:srgbClr val="000000"/>
                  </a:solidFill>
                  <a:latin typeface="Verdana"/>
                </a:rPr>
                <a:t>Assess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8944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000000"/>
                  </a:solidFill>
                  <a:latin typeface="Verdana"/>
                </a:rPr>
                <a:t>Report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26836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500" spc="-1" strike="noStrike">
                  <a:solidFill>
                    <a:srgbClr val="000000"/>
                  </a:solidFill>
                  <a:latin typeface="Verdana"/>
                </a:rPr>
                <a:t>Improve</a:t>
              </a:r>
              <a:endParaRPr b="0" lang="en-US" sz="3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Customer Satisfaction assessment  methodology: the SERVQUAL model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tangibl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liability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sponsivenes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ce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urtes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redibility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assur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empath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Tangibles, Reliability,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angibles: Appearance of physical facilities, equipment, personnel, and communication material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liability: Ability to perform the promised service dependably and accuratel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sponsiveness: Willingness to help customers and provide prompt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“CCC”: Competence, Courtesy, Cred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petence: Possession of required skill and knowledge to perform servi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esy: Politeness, respect, consideration and friendliness of contact personnel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redibility: trustworthiness, believability, honesty of the service provid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Reassurance, Accessibility, Communication, 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assurance: freedom from risk or doub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ccess: Approachability and ease of contac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munication: Listens to its customers and acknowledges their comments. Keeps customers informed - in a language which they can understand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Understanding the customer: Making the effort to know customers and their need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Drivers of quality in a Court: Tangibl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unctionality of the Court buil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leanliness of the Courtro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ccessibility of the Courtroo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mmodities and utili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appearanc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vailability of inform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usiness hours are comfort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are recogniz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evel of informatis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Drivers of quality in a Court: Relia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Helpfulnes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 / Correct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ront office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Compe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pa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Preci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at is Customer Satisfaction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is the Customer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y we should assess C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ow can we assess Customer Satisfaction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Who should do it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Drivers of quality in a Court: Responsivenes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’ Courtesy (in person /by ph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imeliness of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mployees give ready response to question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lexible or bureucratic approach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Drivers of quality in a Court: Accessibilit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y phone, e-mail, we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easy to find what you need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s it accessible to handicapped, minoriti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ability of signals/instru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Drivers of quality in a Court: Communication /Empath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listening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apacity of assisting the customer articulate his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vention /reduction of mistak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 to Customer Complaint /feedback /clai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How to assess and what to ass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Disseminate questionnai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ake phone cal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Give your clients a way to air complaints, to give feedback, to present complimen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 questionnaires, focus on the whole range of services or one or two secto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to assess: the 5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licy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ces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eopl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emises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roduct/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The International Customer Service Institut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o is doing i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terviews can be done by professionals or by yoursel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o people who have experienced or are likely to experience Court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.g: target on lawyers, citizens etc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How to assess satisfaction: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the Likert scal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tem”: a (positive or negative) statement to be evaluat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Five answers possibl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nswers are then summ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Questionnaires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avoid obscure termi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present questions in a neutral w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Be sure that interviewed know what you are talking abou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must not require memory eff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ne aspect per ite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Remeber you are assessing sensations (psychometry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Exampl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ourt employees are courteous and professional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Neither agree nor dis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 Strongly agree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next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Report transparently (e.g: in the Service Charter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arn lessons: discuss with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ct to improve what can be impr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Customer” is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 person who has a material experience of our servic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otential” customers can provide info about reputation (e.g.: expectations) of the servi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Key word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ransparen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iste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derstand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Open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itizen-oriented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rovider” is…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He who provides a public service and organizes its deliver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What is Customer Satisfaction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is the way services provided meet / surpass / delude citizens’ expectation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value of Satisfaction is the gap between expectations and experi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and why we should care??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In a public service, which is normally monopolistic, measuring CS is the only way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assess the performanc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Private companies have other tools such as </a:t>
            </a:r>
            <a:r>
              <a:rPr b="0" lang="it-IT" sz="2500" spc="-1" strike="noStrike" u="sng">
                <a:solidFill>
                  <a:srgbClr val="000000"/>
                </a:solidFill>
                <a:uFillTx/>
                <a:latin typeface="Verdana"/>
              </a:rPr>
              <a:t>profit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public services providers to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choose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priorities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interven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Helps to improve servic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qua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and the </a:t>
            </a:r>
            <a:r>
              <a:rPr b="1" lang="it-IT" sz="2500" spc="-1" strike="noStrike">
                <a:solidFill>
                  <a:srgbClr val="000000"/>
                </a:solidFill>
                <a:latin typeface="Verdana"/>
              </a:rPr>
              <a:t>reputation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of the provid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Satisfaction adds value to the produ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Performanc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The capacity of pursuing the institutional purpose of a public service”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3577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sired End St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508464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WHERE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HOW you g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Provider side, performance is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Productivit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the capacity of turning factors of production into a product: input -&gt; output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iciency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(working or operating in a way that gets the results you want without any waste)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ffectiveness: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producing the intended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On the Customer side, </a:t>
            </a:r>
            <a:br>
              <a:rPr sz="3200"/>
            </a:b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performance is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ffectiveness: the way a public service satisfies a nee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Customer satisfaction analizes the gap between the customer's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ctation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 and their perceived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experienc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of performanc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07Z</dcterms:modified>
  <cp:revision>13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