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279B-1534-40CD-A13F-FFCD7BD15FE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871E-2016-4BE7-B1A8-DF947F1390F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AC11-2501-47D9-ADB9-0F1F682C1B4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C641A-D534-42C3-8944-715A7AF5A2B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A5B91-F479-4B81-9512-148B933B461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290F-4A0E-4CDF-A3EA-EF4C68DFDAB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00550-214B-4513-9D11-0E55E9B77371}"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E40E-312A-4C05-8A94-FF91D2E04FE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38DF-7D5C-4C6C-A970-5A240B834EC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545D-C87E-492D-952E-E15B5819D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62645-67B0-4BBB-B3E1-9D077B329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F9C8D-B0A3-4773-9FD8-3BA65A0B5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DD373-89A0-455F-A39E-1F81FB6BF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CF8A1-A42D-4ED8-90EF-7E9EE0C4AF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3D090-B3D5-4C1E-B875-AFDCCBBF0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FE9CE-CD42-41D1-A7A8-39CF3EF6C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4B1D-8BEB-4280-9B58-DA50437F9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38D548-9EFE-4BB1-86D9-5385CEBAEC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0B516F-7AC0-44B5-A023-DE0D78C94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F8232-B491-45D3-ADB6-DE4A30212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640BE-8597-41D2-8263-EB9D9C819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212E5-3D9D-4AD1-9E5B-8731FABAA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DF24E-D198-4605-A4A7-E5B9EE24E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5394F-2EC2-4266-87B2-F61CC9429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B585E-0127-46B8-9E0B-B98B618B8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727DD-A4E3-45F5-9565-E82FD901D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1F09A-9739-4B71-86C9-5A061DF4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28E6B-11A6-4C46-8A9E-C544194AB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0F081-E05A-440F-9136-CB61A8125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551F-A7EA-474D-9F68-FDDE171A6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718DE-367B-43F6-83BB-EA65A2B1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645D-DF6D-4322-BB05-9B055AEF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3493-6060-43B8-B8D8-926050712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62AD-C78F-4EE0-A12C-7FCE106ADA3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CD05-0F67-4FF6-A827-211EEA62849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a29e"/>
                </a:solidFill>
                <a:latin typeface="Arial"/>
              </a:rPr>
              <a:t>Citizen Oriented Governance</a:t>
            </a:r>
            <a:endParaRPr b="0" lang="en-US" sz="54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n Introduction</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uthority vs. Public Service</a:t>
            </a:r>
            <a:endParaRPr b="0" lang="en-US" sz="44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uthoritarian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is at the service of the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ubjec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avour – mercy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elf interest-corrup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istrust</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n 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pac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cess-oriented</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emocratic Stat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State is at the service of the Citize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izen / Clien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gh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artialit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ust</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ccountable</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ransparency</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esult-orient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re Values</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uthoritarian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dividual</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mocratic State:</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itizen</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ociety</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tate</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itizen-oriented Governance</a:t>
            </a:r>
            <a:endParaRPr b="0" lang="en-US" sz="44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ut the citizen at the center of your activity</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ffici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st-effectiv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dd valu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Right to acces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Public vs. Private</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Monopoly /monopsony</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niversal services</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One product/many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need to obtain  customers’ loyalty</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eviden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No profi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petition</a:t>
            </a:r>
            <a:br>
              <a:rPr sz="2400"/>
            </a:b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arget customer segmen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fferent products /different need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ustomer loyalty</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rect relation between quality and costs</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fit</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Global Competitiveness</a:t>
            </a:r>
            <a:endParaRPr b="0" lang="en-US" sz="44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Foreign Investments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Emigr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Brain Drai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CI of Ukraine = 82 (was 72 in 2008)</a:t>
            </a:r>
            <a:endParaRPr b="0" lang="en-US" sz="28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Anything you can do about that?</a:t>
            </a:r>
            <a:endParaRPr b="0" lang="en-US" sz="44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1. Property rights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1 Property right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2. Ethics and corruption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2 Diversion of publics fund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3 Public trust of politician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3. Undue influenc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4 Judicial independ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5 Favoritism in decisions of government officials</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4. Government inefficiency (red tape, bureaucracy and waste)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6 Wastefulness of government spending</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7 Burden of government regulation</a:t>
            </a:r>
            <a:endParaRPr b="0" lang="en-US" sz="1400" spc="-1" strike="noStrike">
              <a:solidFill>
                <a:srgbClr val="000000"/>
              </a:solidFill>
              <a:latin typeface="Tahoma"/>
            </a:endParaRPr>
          </a:p>
          <a:p>
            <a:pPr lvl="1" marL="743040" indent="-28584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5. Security </a:t>
            </a:r>
            <a:endParaRPr b="0" lang="en-US" sz="16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8 Business costs of terrorism</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09 Reliability of police services</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0 Business costs of crime and violence</a:t>
            </a:r>
            <a:endParaRPr b="0" lang="en-US" sz="1400" spc="-1" strike="noStrike">
              <a:solidFill>
                <a:srgbClr val="000000"/>
              </a:solidFill>
              <a:latin typeface="Tahoma"/>
            </a:endParaRPr>
          </a:p>
          <a:p>
            <a:pPr lvl="2" marL="1143000" indent="-228600">
              <a:lnSpc>
                <a:spcPct val="80000"/>
              </a:lnSpc>
              <a:spcBef>
                <a:spcPts val="349"/>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11 Organized crime</a:t>
            </a:r>
            <a:endParaRPr b="0" lang="en-US" sz="14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Conclusion</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Accountability + Effectiveness of the Judiciary has an enormous role in the prosperity and competitiveness of a Countr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But… how we do ensure accountability?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7:45Z</dcterms:modified>
  <cp:revision>7</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